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FB98-0B3D-43FA-A137-156C40352D20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place this with your course title and your name/contact detai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, I start discussing objects and classes. I talk to the stud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out it for a while, then I do an extensive demo of the shapes example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ueJ. All important points of this lecture are encountered and poi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ut during this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following slides serve only as summary, or reminder. No ne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introduced after the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don’t always need to show all these slides in cl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are intended as summaries. Discuss these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a demo, or in a dialog, or in any way you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4400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904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189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4400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904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5400" y="413064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5400" y="19810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413064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040" y="6426360"/>
            <a:ext cx="7162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ktorientierte Programmierung mit Java und BlueJ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avid J. Barnes, Michael Kö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01000" y="642636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E5C-E10C-4646-BBE8-8EBA3EA4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c4a1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5400000">
            <a:off x="-3071160" y="3040560"/>
            <a:ext cx="6858000" cy="77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9907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 rot="5400000">
            <a:off x="-3053520" y="3040920"/>
            <a:ext cx="6858000" cy="77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solidFill>
            <a:srgbClr val="dc4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orientierte Programmierung mit Java</a:t>
            </a:r>
            <a:br>
              <a:rPr sz="4400"/>
            </a:br>
            <a:br>
              <a:rPr sz="1400"/>
            </a:b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Eine praxisnahe </a:t>
            </a:r>
            <a:r>
              <a:rPr b="0" lang="de-DE" sz="2800" spc="-1" strike="noStrike">
                <a:solidFill>
                  <a:srgbClr val="dc4a1a"/>
                </a:solidFill>
                <a:latin typeface="Trebuchet MS"/>
              </a:rPr>
              <a:t>Einfuehrung mit </a:t>
            </a:r>
            <a:r>
              <a:rPr b="0" lang="en-GB" sz="2800" spc="-1" strike="noStrike">
                <a:solidFill>
                  <a:srgbClr val="dc4a1a"/>
                </a:solidFill>
                <a:latin typeface="Trebuchet MS"/>
              </a:rPr>
              <a:t> BlueJ</a:t>
            </a:r>
            <a:endParaRPr b="0" lang="en-US" sz="28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avid J. Barn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ichael Köll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6248520"/>
            <a:ext cx="438120" cy="438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478720" y="653724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Methoden und Parameter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Objekte haben Operationen die aufgerufen werden (Java:  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Methoden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hoden k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nnen Parameter haben womit  additionelle notwendige Information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ü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ertragen wir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Weitere Observation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Von einer Klasse k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ö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nnen mehrere Instanzen (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instances)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rzeugt werd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Objekt hat Attribute (</a:t>
            </a:r>
            <a:r>
              <a:rPr b="0" i="1" lang="en-GB" sz="3200" spc="-1" strike="noStrike">
                <a:solidFill>
                  <a:srgbClr val="000000"/>
                </a:solidFill>
                <a:latin typeface="Trebuchet MS"/>
              </a:rPr>
              <a:t>attributes)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:  Werte gehalten in Datenfelder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ie Klasse definiert welche Attribute ein Objekt besitzt, aber jedes Objekt hat seine eigene Wertmenge (der Zustand des Objektes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Zustand eines Objekts (State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62940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Zwei Kreis-Objek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467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Quelltext (source code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Jeder Klasse ist Quelltext (Java code) zugeordne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er Quelltext beschreibt die Details der Klasse (Datenfelder und Methoden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Inhalt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f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üh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rung in objektorientierte Programmierung .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it einer starken ‘software engineering’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Grundla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Ziel: Produktion und 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artung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großer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Softwaresysteme </a:t>
            </a: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von hoher  Qualität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Ziel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Grundprinzipien der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rogrammierung kennen lernen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bject-Orientierung kennen lerne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Fähig werden kritisch die Qualität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 eines (kleinen) Softwaresystems zu beurteil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Fähig werden 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ein kleines Softwaresystem in Java zu implementieren 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uch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" y="2057400"/>
            <a:ext cx="8021880" cy="271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vid J. Barnes &amp; Michael Kölling</a:t>
            </a:r>
            <a:br>
              <a:rPr sz="3200"/>
            </a:br>
            <a:br>
              <a:rPr sz="1200"/>
            </a:br>
            <a:r>
              <a:rPr b="1" lang="en-GB" sz="2800" spc="-1" strike="noStrike">
                <a:solidFill>
                  <a:srgbClr val="000000"/>
                </a:solidFill>
                <a:latin typeface="Verdana-Bold"/>
              </a:rPr>
              <a:t>Objektorientierte Programmierung mit Java</a:t>
            </a:r>
            <a:br>
              <a:rPr sz="3200"/>
            </a:br>
            <a:r>
              <a:rPr b="1" lang="en-GB" sz="2400" spc="-1" strike="noStrike">
                <a:solidFill>
                  <a:srgbClr val="000000"/>
                </a:solidFill>
                <a:latin typeface="Verdana-Bold"/>
              </a:rPr>
              <a:t>Eine praxisnahe Einf</a:t>
            </a:r>
            <a:r>
              <a:rPr b="1" lang="nl-NL" sz="2400" spc="-1" strike="noStrike">
                <a:solidFill>
                  <a:srgbClr val="000000"/>
                </a:solidFill>
                <a:latin typeface="Verdana-Bold"/>
              </a:rPr>
              <a:t>üh</a:t>
            </a:r>
            <a:r>
              <a:rPr b="1" lang="en-GB" sz="2400" spc="-1" strike="noStrike">
                <a:solidFill>
                  <a:srgbClr val="000000"/>
                </a:solidFill>
                <a:latin typeface="Verdana-Bold"/>
              </a:rPr>
              <a:t>rung mit BlueJ</a:t>
            </a:r>
            <a:br>
              <a:rPr sz="2400"/>
            </a:br>
            <a:br>
              <a:rPr sz="1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earson Studium, 2003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SBN 3-8273-7073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urs  </a:t>
            </a:r>
            <a:r>
              <a:rPr b="0" lang="nl-NL" sz="4400" spc="-1" strike="noStrike">
                <a:solidFill>
                  <a:srgbClr val="dc4a1a"/>
                </a:solidFill>
                <a:latin typeface="Trebuchet MS"/>
              </a:rPr>
              <a:t>Ü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erblick (1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e und Kl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Klassendefinition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interak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Objektsammlung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erbessertes Verhalten - Bibliothe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Kurs </a:t>
            </a:r>
            <a:r>
              <a:rPr b="0" lang="nl-NL" sz="4400" spc="-1" strike="noStrike">
                <a:solidFill>
                  <a:srgbClr val="dc4a1a"/>
                </a:solidFill>
                <a:latin typeface="Trebuchet MS"/>
              </a:rPr>
              <a:t>Ü</a:t>
            </a: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erblick (2)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Testen und Fehlerbeseitig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nentwurf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Vererbu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olymorphismu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Demo mit BlueJ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Basiskonzepte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Objekt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object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clas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Methode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method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Parameter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parameter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Datentyp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(data type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c4a1a"/>
                </a:solidFill>
                <a:latin typeface="Trebuchet MS"/>
              </a:rPr>
              <a:t>Objekte und Klassen</a:t>
            </a:r>
            <a:endParaRPr b="0" lang="en-US" sz="4400" spc="-1" strike="noStrike">
              <a:solidFill>
                <a:srgbClr val="dc4a1a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Objek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representieren  ‘Dinge’ der realen Welt oder eines Problembereichs (Beispiel: “der rote Wagen da unten im  Parkhaus”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7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</a:rPr>
              <a:t>Klass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representieren  alle Objekte eines Typs (Beispiel: “Wagen”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19:56:09Z</dcterms:created>
  <dc:creator>David J. Barnes, Michael Kölling</dc:creator>
  <dc:description>Copyright © David J. Barnes, Michael Kölling</dc:description>
  <dc:language>en-US</dc:language>
  <cp:lastModifiedBy>Fontys ICT Services</cp:lastModifiedBy>
  <dcterms:modified xsi:type="dcterms:W3CDTF">2004-05-27T07:38:09Z</dcterms:modified>
  <cp:revision>69</cp:revision>
  <dc:subject/>
  <dc:title>Objects First With Java - Chapter 1</dc:title>
</cp:coreProperties>
</file>