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440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690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89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440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690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440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90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189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440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90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040" y="6426360"/>
            <a:ext cx="716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ktorientierte Programmierung mit Java und BlueJ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David J. Barnes, Michael Kö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0100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962A-0C6F-4F68-B6AC-10C615A7CA3C}" type="slidenum">
              <a:rPr b="0" lang="da-D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a-DK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 rot="5400000">
            <a:off x="-3071160" y="3040560"/>
            <a:ext cx="6858000" cy="776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 rot="5400000">
            <a:off x="-3053520" y="3040920"/>
            <a:ext cx="6858000" cy="7761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5400000">
            <a:off x="-3071160" y="3040560"/>
            <a:ext cx="6858000" cy="776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5400000">
            <a:off x="-3053520" y="3040920"/>
            <a:ext cx="6858000" cy="776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990720"/>
            <a:ext cx="7696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rebuchet MS"/>
              </a:rPr>
              <a:t>Objektorientierte Programmierung mit Java</a:t>
            </a:r>
            <a:br>
              <a:rPr sz="2400"/>
            </a:br>
            <a:br>
              <a:rPr sz="800"/>
            </a:br>
            <a:r>
              <a:rPr b="0" lang="en-GB" sz="1800" spc="-1" strike="noStrike">
                <a:solidFill>
                  <a:srgbClr val="ff0000"/>
                </a:solidFill>
                <a:latin typeface="Trebuchet MS"/>
              </a:rPr>
              <a:t>Eine praxisnahe </a:t>
            </a:r>
            <a:r>
              <a:rPr b="0" lang="de-DE" sz="1800" spc="-1" strike="noStrike">
                <a:solidFill>
                  <a:srgbClr val="ff0000"/>
                </a:solidFill>
                <a:latin typeface="Trebuchet MS"/>
              </a:rPr>
              <a:t>Einf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ü</a:t>
            </a:r>
            <a:r>
              <a:rPr b="0" lang="de-DE" sz="1800" spc="-1" strike="noStrike">
                <a:solidFill>
                  <a:srgbClr val="ff0000"/>
                </a:solidFill>
                <a:latin typeface="Trebuchet MS"/>
              </a:rPr>
              <a:t>hrung mit </a:t>
            </a:r>
            <a:r>
              <a:rPr b="0" lang="en-GB" sz="1800" spc="-1" strike="noStrike">
                <a:solidFill>
                  <a:srgbClr val="ff0000"/>
                </a:solidFill>
                <a:latin typeface="Trebuchet MS"/>
              </a:rPr>
              <a:t> Blu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2400" y="2514240"/>
            <a:ext cx="739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Klassendefinitionen versteh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934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Quelltext anschaue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8478720" y="653724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Method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ethoden implementieren das Verhalten von Objekte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ethoden bestehen aus zwei Teilen: einem Kopf (header) und einem Rumpf (body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r Kopf definiert die Signatur der Method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gibPreis(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r Rumpf enth</a:t>
            </a: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ält die Anweisungen (und extra Deklarationen)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Method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25" name=""/>
          <p:cNvSpPr/>
          <p:nvPr/>
        </p:nvSpPr>
        <p:spPr>
          <a:xfrm>
            <a:off x="2300400" y="3203640"/>
            <a:ext cx="402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int gibPrei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pre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36520" y="2170080"/>
            <a:ext cx="14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gebnisty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turn ty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34920" y="249084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e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75560" y="2871720"/>
            <a:ext cx="20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 Liste (le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01840" y="3581280"/>
            <a:ext cx="36504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26720" y="4867200"/>
            <a:ext cx="47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und Ende einer Methodenrumpf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48520" y="388944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ückgabeanwei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turn stat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2625480" y="47764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990960" y="25750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283000" y="2819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181560" y="312408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584680" y="4163760"/>
            <a:ext cx="58752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48960" y="2490840"/>
            <a:ext cx="22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ugriffsmodific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2895480"/>
            <a:ext cx="1006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Sondierende Methoden (Accessors)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cessors ergeben Information </a:t>
            </a: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über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ein Objek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gibPreis(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rebuchet MS"/>
              </a:rPr>
              <a:t>Ver</a:t>
            </a:r>
            <a:r>
              <a:rPr b="0" lang="nl-NL" sz="4400" spc="-1" strike="noStrike">
                <a:solidFill>
                  <a:srgbClr val="ff0000"/>
                </a:solidFill>
                <a:latin typeface="Trebuchet MS"/>
              </a:rPr>
              <a:t>ändernde Methoden</a:t>
            </a:r>
            <a:br>
              <a:rPr sz="4400"/>
            </a:br>
            <a:r>
              <a:rPr b="0" lang="nl-NL" sz="4400" spc="-1" strike="noStrike">
                <a:solidFill>
                  <a:srgbClr val="ff0000"/>
                </a:solidFill>
                <a:latin typeface="Trebuchet MS"/>
              </a:rPr>
              <a:t>(m</a:t>
            </a:r>
            <a:r>
              <a:rPr b="0" lang="en-US" sz="4400" spc="-1" strike="noStrike">
                <a:solidFill>
                  <a:srgbClr val="ff0000"/>
                </a:solidFill>
                <a:latin typeface="Trebuchet MS"/>
              </a:rPr>
              <a:t>utators)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utators werden benutzt, um den Zustand eines Objekts zu </a:t>
            </a: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ä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dern  (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mutate,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change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Mutators ä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dern Werte von einem oder mehreren Datenfelder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ttels Zuweisungen (assignment statements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t werden Werte von Parametern 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übertrag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Mutator Method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0" y="3127320"/>
            <a:ext cx="556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ublic void geldEinwerfen(int betr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isherGezahlt += betra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1337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gebnistyp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8160" y="251460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13120" y="259092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048120" y="2522520"/>
            <a:ext cx="612720" cy="6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95288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705720" y="2963880"/>
            <a:ext cx="119376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1280" y="2209680"/>
            <a:ext cx="22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ugriffsmodifik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2666880"/>
            <a:ext cx="13176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40384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uwei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94360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55960" y="4811760"/>
            <a:ext cx="42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nfeld das ge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dert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2895120" y="441324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Ausgaben in Methoden </a:t>
            </a:r>
            <a:br>
              <a:rPr sz="4400"/>
            </a:br>
            <a:r>
              <a:rPr b="0" lang="en-US" sz="2800" spc="-1" strike="noStrike">
                <a:solidFill>
                  <a:srgbClr val="dc4a1a"/>
                </a:solidFill>
                <a:latin typeface="Trebuchet MS"/>
              </a:rPr>
              <a:t>(Printing from methods)</a:t>
            </a:r>
            <a:endParaRPr b="0" lang="en-US" sz="28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752480"/>
            <a:ext cx="723744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ublic void ticketDrucke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// Den Ausdruck eines Tickets simulie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ystem.out.println("##################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ystem.out.println("# Die BlueJ-Lini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ystem.out.println("# Ticke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ystem.out.println("# " + preis + " Cent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ystem.out.println("##################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// Die Gesamtsumme mit dem eingezahlten Betrag aktualisie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samtsumme += bisherGezah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// Die bisherige Bezahlung zurücksetz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sherGezahl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Bewertung des (naiven) Ticketautomat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as Verhalten ist unangemessen im realen Einsatz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eine Pr</a:t>
            </a: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üfung ob genug Geld eingeworfen is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ein Zur</a:t>
            </a: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ückgabe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eine Pr</a:t>
            </a: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üfung ob der Ticketpreis sinnvoll ist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ie beseitigen wir diese Probleme 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in besseres Verhalte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Entscheidungen treffen</a:t>
            </a:r>
            <a:br>
              <a:rPr sz="4400"/>
            </a:br>
            <a:r>
              <a:rPr b="0" lang="en-US" sz="3200" spc="-1" strike="noStrike">
                <a:solidFill>
                  <a:srgbClr val="dc4a1a"/>
                </a:solidFill>
                <a:latin typeface="Trebuchet MS"/>
              </a:rPr>
              <a:t>die bedingte Anweisung</a:t>
            </a:r>
            <a:endParaRPr b="0" lang="en-US" sz="32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376360"/>
            <a:ext cx="83584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public void geldEinwerfen(int betra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if (betrag &g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bisherGezahlt += betra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System.out.println("Bitte nur positive Beträge verwenden: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+ betra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l-NL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Entscheidungen treffen</a:t>
            </a:r>
            <a:br>
              <a:rPr sz="4400"/>
            </a:b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dc4a1a"/>
                </a:solidFill>
                <a:latin typeface="Trebuchet MS"/>
              </a:rPr>
              <a:t>die bedingte Anweisung</a:t>
            </a:r>
            <a:endParaRPr b="0" lang="en-US" sz="32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64" name=""/>
          <p:cNvSpPr/>
          <p:nvPr/>
        </p:nvSpPr>
        <p:spPr>
          <a:xfrm>
            <a:off x="822960" y="3117960"/>
            <a:ext cx="745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i="1" lang="nl-NL" sz="1800" spc="-1" strike="noStrike">
                <a:solidFill>
                  <a:srgbClr val="000000"/>
                </a:solidFill>
                <a:latin typeface="Courier New"/>
              </a:rPr>
              <a:t>ühre eine Prüfung durc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uszuf</a:t>
            </a:r>
            <a:r>
              <a:rPr b="1" i="1" lang="nl-NL" sz="1800" spc="-1" strike="noStrike">
                <a:solidFill>
                  <a:srgbClr val="000000"/>
                </a:solidFill>
                <a:latin typeface="Courier New"/>
              </a:rPr>
              <a:t>ührende Anweisungen wenn der Test tr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uszuf</a:t>
            </a:r>
            <a:r>
              <a:rPr b="1" i="1" lang="nl-NL" sz="1800" spc="-1" strike="noStrike">
                <a:solidFill>
                  <a:srgbClr val="000000"/>
                </a:solidFill>
                <a:latin typeface="Courier New"/>
              </a:rPr>
              <a:t>ührende Anweisungen wenn der Test fal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1160" y="205740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’ key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39600" y="1905120"/>
            <a:ext cx="425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ean Ausdruck der getestet w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bt e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rgebn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3800" y="52578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’ key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243828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1218960" y="4267080"/>
            <a:ext cx="1522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743200" y="22860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4243320"/>
            <a:ext cx="7467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3429000"/>
            <a:ext cx="7467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Lokale Variabl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enfelder sind nur eine Art Variabl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e speichern Werte w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ährend der Lebensdauer des Objekt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e sind zugreifbar innerhalb der ganzen Klass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ethoden k</a:t>
            </a: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önnen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uch zeitliche Variablen enthalte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e existieren nur solange die Methode ausgef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ührt wir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e sind nur zugreifbar innerhalb der Method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Java-Konstrukte in diesem Kapitel</a:t>
            </a:r>
            <a:br>
              <a:rPr sz="4400"/>
            </a:b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Datenfelder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fiel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Konstruktoren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constructor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Methoden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Parameter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parameter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Zuweisungen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assignment 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statemen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Bedingte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conditiona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Anweisungen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statemen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Lokale Variabl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1752480"/>
            <a:ext cx="9021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* Gib das Wechselgeld bzw. den bish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* gezahlten Betrag zurü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public int wechselgeldAuszahle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int wechselgel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wechselgeld = bisherGezah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bisherGezahl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return wechselgel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33544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ne lokale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714640" y="3581280"/>
            <a:ext cx="10666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2971800"/>
            <a:ext cx="2209680" cy="167652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ugriffsmodific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314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3733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Zusammenfassung </a:t>
            </a:r>
            <a:r>
              <a:rPr b="0" lang="en-US" sz="2800" spc="-1" strike="noStrike">
                <a:solidFill>
                  <a:srgbClr val="dc4a1a"/>
                </a:solidFill>
                <a:latin typeface="Trebuchet MS"/>
              </a:rPr>
              <a:t>(Review)</a:t>
            </a:r>
            <a:endParaRPr b="0" lang="en-US" sz="28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Klassen haben Datenfelder, Konstruktoren und Method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atenfelder speichern Werte (Zustand des Objekts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Konstruktoren initialisieren Objekt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thoden implementieren das Verhalten der Objekte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Zusammenfassung </a:t>
            </a:r>
            <a:r>
              <a:rPr b="0" lang="en-US" sz="2800" spc="-1" strike="noStrike">
                <a:solidFill>
                  <a:srgbClr val="dc4a1a"/>
                </a:solidFill>
                <a:latin typeface="Trebuchet MS"/>
              </a:rPr>
              <a:t>(Review)</a:t>
            </a:r>
            <a:endParaRPr b="0" lang="en-US" sz="28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atenfelder, Parameter und lokale Variablen sind alle Variabl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atenfelder 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existieren nur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w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ährend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der Lebensdauer eines Objekt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rameter werden benutzt um Werte in einen Konstruktor oder Methode zu empfa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nge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okale Variablen werden benutzt  f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ür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zeitliche Speicherung innerhalb einer Methode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Zusammenfassung </a:t>
            </a:r>
            <a:r>
              <a:rPr b="0" lang="en-US" sz="2800" spc="-1" strike="noStrike">
                <a:solidFill>
                  <a:srgbClr val="dc4a1a"/>
                </a:solidFill>
                <a:latin typeface="Trebuchet MS"/>
              </a:rPr>
              <a:t>(Review)</a:t>
            </a:r>
            <a:endParaRPr b="0" lang="en-US" sz="28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kte k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önne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Entscheidungen treffen mittels  bedingter Anweisungen (if statements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 wird eine von zwei Aktionen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usgef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ührt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, abh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ängig vom Ergebnis e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es true oder false Test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Ticketautomat – </a:t>
            </a:r>
            <a:br>
              <a:rPr sz="4400"/>
            </a:b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eine Sicht von auß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Untersuchung des Verhaltens eines  typischen Ticketautomaten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Projekt </a:t>
            </a:r>
            <a:r>
              <a:rPr b="0" i="1" lang="en-GB" sz="2800" spc="-1" strike="noStrike">
                <a:solidFill>
                  <a:srgbClr val="000000"/>
                </a:solidFill>
                <a:latin typeface="Trebuchet MS"/>
              </a:rPr>
              <a:t>naiver-ticketautomat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Unser Ticketautomat hat nur eine Ticketart mit einem Einheitsprei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Wie wird der Preis bestimmt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Wie wird Geld in den Automaten eingeworfen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Wie registriert ein Automat wie viel Geld bisher eingeworfen ist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Ticketautomat – </a:t>
            </a:r>
            <a:br>
              <a:rPr sz="4400"/>
            </a:b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eine Sicht von auß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228564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teraktion mit einem Objekt gibt uns 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Hinweise für sei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Verhalt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r Quelltext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(looking inside)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zeigt, wie dieses Verhalten implementiert is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lle Java-Klassen sehen 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ähnlich aus.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Klassenstruktur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1062360" y="2281320"/>
            <a:ext cx="300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ublic class Ticketautom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nl-NL" sz="1600" spc="-1" strike="noStrike">
                <a:solidFill>
                  <a:srgbClr val="000000"/>
                </a:solidFill>
                <a:latin typeface="Times New Roman"/>
              </a:rPr>
              <a:t>Innenteil der Klasse ausgelass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72080" y="3976560"/>
            <a:ext cx="3106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lassen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enfel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onstrukto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tho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9920" y="1905120"/>
            <a:ext cx="2743200" cy="1084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43600" y="20368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äußere Kl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 Ticketautom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495680" y="2455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62600" y="4343400"/>
            <a:ext cx="2743200" cy="1084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438360" y="4894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97600" y="4473720"/>
            <a:ext cx="21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Inhalt e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Datenfelder (Fields)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3657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atenfelder speichern Werte 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f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ü</a:t>
            </a:r>
            <a:r>
              <a:rPr b="0" lang="de-DE" sz="2400" spc="-1" strike="noStrike">
                <a:solidFill>
                  <a:srgbClr val="000000"/>
                </a:solidFill>
                <a:latin typeface="Trebuchet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ein Objek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atenfelder werden auch als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Instanzvariable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bezeichne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enutze die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Inspec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ption um die Werte zu sehe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atenfelder definieren den Zustand eines Objekt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"/>
          <p:cNvSpPr/>
          <p:nvPr/>
        </p:nvSpPr>
        <p:spPr>
          <a:xfrm>
            <a:off x="4427280" y="2147760"/>
            <a:ext cx="4813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Ticketauto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int prei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int bisherGezah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vate int gesamtsum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nstruktor und Methoden ausge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90720" y="548640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int prei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4800600"/>
            <a:ext cx="221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ugriffsmodifik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2240" y="48006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90000" y="48006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ble-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7315200" y="5105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5181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Konstruktor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in Konstruktor initialisiert ein Objek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onstruktoren haben denselben Namen wie ihre Klass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e initialisieren die Datenfelder des Objekt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e bekommen oft daf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ür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terne Werte mittels Parameter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2071800"/>
            <a:ext cx="4737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TicketMachine(int ticketCo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ce = ticketCo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lanc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tal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rebuchet MS"/>
              </a:rPr>
              <a:t>Daten</a:t>
            </a:r>
            <a:r>
              <a:rPr b="0" lang="nl-NL" sz="4400" spc="-1" strike="noStrike">
                <a:solidFill>
                  <a:srgbClr val="ff0000"/>
                </a:solidFill>
                <a:latin typeface="Trebuchet MS"/>
              </a:rPr>
              <a:t>übergabe mit</a:t>
            </a:r>
            <a:r>
              <a:rPr b="0" lang="en-US" sz="4400" spc="-1" strike="noStrike">
                <a:solidFill>
                  <a:srgbClr val="ff0000"/>
                </a:solidFill>
                <a:latin typeface="Trebuchet MS"/>
              </a:rPr>
              <a:t> Parameter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60360" y="1981080"/>
            <a:ext cx="7385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Zuweisung (Assignment)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erte werden gespeichert in Datenfelder (und andere Variablen) mittels zuweisungen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variable = ausdruck;            (expression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eis = ticketpreis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in Variable speichert einen einzelnen Wer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David J. Barnes, Michael Kölling</dc:creator>
  <dc:description>Copyright © David J. Barnes, Michael Kölling</dc:description>
  <dc:language>en-US</dc:language>
  <cp:lastModifiedBy>Fontys ICT Services</cp:lastModifiedBy>
  <cp:lastPrinted>2004-05-17T08:03:16Z</cp:lastPrinted>
  <dcterms:modified xsi:type="dcterms:W3CDTF">2004-05-27T07:47:33Z</dcterms:modified>
  <cp:revision>69</cp:revision>
  <dc:subject/>
  <dc:title>Objects First With Java - Chapter 2</dc:title>
</cp:coreProperties>
</file>