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18960" y="413064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896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540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4400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6904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1896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4400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6904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1896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540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18960" y="413064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18960" y="413064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1896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540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4400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6904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1896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4400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6904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1896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540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18960" y="413064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040" y="6426360"/>
            <a:ext cx="7162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jektorientierte Programmierung mit Java und BlueJ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© David J. Barnes, Michael Kö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001000" y="642636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2123-AA4C-4DD8-8778-00C425145248}" type="slidenum">
              <a:rPr b="0" lang="da-D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a-DK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 rot="5400000">
            <a:off x="-3071160" y="3040560"/>
            <a:ext cx="6858000" cy="7765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915400" y="0"/>
            <a:ext cx="228600" cy="6858000"/>
          </a:xfrm>
          <a:prstGeom prst="rect">
            <a:avLst/>
          </a:prstGeom>
          <a:solidFill>
            <a:srgbClr val="dc4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 rot="5400000">
            <a:off x="-3053520" y="3040920"/>
            <a:ext cx="6858000" cy="7761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8915400" y="0"/>
            <a:ext cx="228600" cy="6858000"/>
          </a:xfrm>
          <a:prstGeom prst="rect">
            <a:avLst/>
          </a:prstGeom>
          <a:solidFill>
            <a:srgbClr val="dc4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2514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 rot="5400000">
            <a:off x="-3071160" y="3040560"/>
            <a:ext cx="6858000" cy="776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915400" y="0"/>
            <a:ext cx="228600" cy="6858000"/>
          </a:xfrm>
          <a:prstGeom prst="rect">
            <a:avLst/>
          </a:prstGeom>
          <a:solidFill>
            <a:srgbClr val="dc4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 rot="5400000">
            <a:off x="-3053520" y="3040920"/>
            <a:ext cx="6858000" cy="776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915400" y="0"/>
            <a:ext cx="228600" cy="6858000"/>
          </a:xfrm>
          <a:prstGeom prst="rect">
            <a:avLst/>
          </a:prstGeom>
          <a:solidFill>
            <a:srgbClr val="dc4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990720"/>
            <a:ext cx="7696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rebuchet MS"/>
              </a:rPr>
              <a:t>Objektorientierte Programmierung mit Java</a:t>
            </a:r>
            <a:br>
              <a:rPr sz="2400"/>
            </a:br>
            <a:br>
              <a:rPr sz="800"/>
            </a:br>
            <a:r>
              <a:rPr b="0" lang="en-GB" sz="1800" spc="-1" strike="noStrike">
                <a:solidFill>
                  <a:srgbClr val="ff0000"/>
                </a:solidFill>
                <a:latin typeface="Trebuchet MS"/>
              </a:rPr>
              <a:t>Eine praxisnahe </a:t>
            </a:r>
            <a:r>
              <a:rPr b="0" lang="de-DE" sz="1800" spc="-1" strike="noStrike">
                <a:solidFill>
                  <a:srgbClr val="ff0000"/>
                </a:solidFill>
                <a:latin typeface="Trebuchet MS"/>
              </a:rPr>
              <a:t>Einf</a:t>
            </a: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ü</a:t>
            </a:r>
            <a:r>
              <a:rPr b="0" lang="de-DE" sz="1800" spc="-1" strike="noStrike">
                <a:solidFill>
                  <a:srgbClr val="ff0000"/>
                </a:solidFill>
                <a:latin typeface="Trebuchet MS"/>
              </a:rPr>
              <a:t>hrung mit </a:t>
            </a:r>
            <a:r>
              <a:rPr b="0" lang="en-GB" sz="1800" spc="-1" strike="noStrike">
                <a:solidFill>
                  <a:srgbClr val="ff0000"/>
                </a:solidFill>
                <a:latin typeface="Trebuchet MS"/>
              </a:rPr>
              <a:t> Blue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2514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Objektsammlungen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6765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ammlungen und Iteratore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"/>
          <p:cNvSpPr/>
          <p:nvPr/>
        </p:nvSpPr>
        <p:spPr>
          <a:xfrm>
            <a:off x="8478720" y="6537240"/>
            <a:ext cx="3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rebuchet MS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Die Sammlung benutzen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06" name=""/>
          <p:cNvSpPr/>
          <p:nvPr/>
        </p:nvSpPr>
        <p:spPr>
          <a:xfrm>
            <a:off x="1113840" y="1600200"/>
            <a:ext cx="67644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Notizbu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ArrayList notize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public void speichereNotiz(String notiz)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notizen.add(notiz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int anzahlNotize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notizen.siz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5880" y="3505320"/>
            <a:ext cx="274320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ichere eine neue Noti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38680" y="4726080"/>
            <a:ext cx="3124440" cy="60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die Anzahl der Noti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028840" y="3733920"/>
            <a:ext cx="91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5409720" y="510552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Index-Nummerierung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4674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Ein Objekt wieder finden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14" name=""/>
          <p:cNvSpPr/>
          <p:nvPr/>
        </p:nvSpPr>
        <p:spPr>
          <a:xfrm>
            <a:off x="746280" y="1754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48520" y="1600200"/>
            <a:ext cx="228600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Überprüfung des Index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962160" y="2209680"/>
            <a:ext cx="2361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172200" y="2362320"/>
            <a:ext cx="9144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5562720"/>
            <a:ext cx="3047760" cy="685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de und zeige die Noti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5943240" y="4343040"/>
            <a:ext cx="1522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2257560"/>
            <a:ext cx="144756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3098880"/>
            <a:ext cx="144792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4120" y="4737240"/>
            <a:ext cx="144756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2209680"/>
            <a:ext cx="92199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public void zeigeNotiz(int notiznumm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if(notiznummer &lt; 0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// Keine gültige Nummer, nichts zu tu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else if(notiznummer &lt; anzahlNotizen(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// Die Nummer ist gültig, wir können die Notiz ausgeb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System.out.println(notizen.get(notiznummer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// Keine gültige Nummer, nichts zu tu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rebuchet MS"/>
              </a:rPr>
              <a:t>Entfernung kann den Index </a:t>
            </a:r>
            <a:r>
              <a:rPr b="0" lang="nl-NL" sz="4400" spc="-1" strike="noStrike">
                <a:solidFill>
                  <a:srgbClr val="ff0000"/>
                </a:solidFill>
                <a:latin typeface="Trebuchet MS"/>
              </a:rPr>
              <a:t>ändern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9250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Zusammenfassung </a:t>
            </a:r>
            <a:r>
              <a:rPr b="0" lang="en-US" sz="3200" spc="-1" strike="noStrike">
                <a:solidFill>
                  <a:srgbClr val="dc4a1a"/>
                </a:solidFill>
                <a:latin typeface="Trebuchet MS"/>
              </a:rPr>
              <a:t>(Review)</a:t>
            </a:r>
            <a:endParaRPr b="0" lang="en-US" sz="32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18960" y="220932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Klassenbibliotheken enthalten erprobte Klasse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Java nennt ihre Bibliotheken </a:t>
            </a:r>
            <a:r>
              <a:rPr b="0" i="1" lang="en-US" sz="3200" spc="-1" strike="noStrike">
                <a:solidFill>
                  <a:srgbClr val="000000"/>
                </a:solidFill>
                <a:latin typeface="Trebuchet MS"/>
              </a:rPr>
              <a:t>Pakete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packages)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ir haben die Klass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vom Paket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benutzt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Zusammenfassung </a:t>
            </a:r>
            <a:r>
              <a:rPr b="0" lang="en-US" sz="3200" spc="-1" strike="noStrike">
                <a:solidFill>
                  <a:srgbClr val="dc4a1a"/>
                </a:solidFill>
                <a:latin typeface="Trebuchet MS"/>
              </a:rPr>
              <a:t>(Review)</a:t>
            </a:r>
            <a:endParaRPr b="0" lang="en-US" sz="32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7467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 einer Sammlung können beliebig viele Elemente gespeichert werd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lemente können hinzugefügt und entfernt werden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Jedes Element hat einen Index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dexwerte können sich ändern wenn z.B. Elemente entfernt werden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ie wichtigsten Methoden vo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si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Iteration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ft wollen wir eine Menge von Aktionen  wiederholen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z.B., liste alle Notizen im Notizbuch auf. Wie viel Notizen gibt es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ie meisten Programmiersprachen enthalten Wiederhol-Schleifen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loop statements)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um dies zu lösen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Java hat drei verschiedene Möglichkeiten zu Wiederhol-Schleifen 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Zuerst stellen wir die  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while-Schleife vor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While-Schleife Pseudocode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312408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chleifenbedingung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chleifenrum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32880" y="5346720"/>
            <a:ext cx="5667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s gibt noch eine auszugebende Notiz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zeige die nächste Noti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2590920"/>
            <a:ext cx="152388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olean 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343400" y="28195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2286000"/>
            <a:ext cx="213372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hlüsselwor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w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27432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3276720"/>
            <a:ext cx="2666880" cy="457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weisungen, wiederho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szufüh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72392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4584600"/>
            <a:ext cx="3962520" cy="533520"/>
          </a:xfrm>
          <a:prstGeom prst="roundRect">
            <a:avLst>
              <a:gd name="adj" fmla="val 16667"/>
            </a:avLst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seudocode, der alle Notizen auflist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8120" y="1828800"/>
            <a:ext cx="3886200" cy="380880"/>
          </a:xfrm>
          <a:prstGeom prst="roundRect">
            <a:avLst>
              <a:gd name="adj" fmla="val 16667"/>
            </a:avLst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elle Struktur einer while-Schlei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1676520"/>
            <a:ext cx="777240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4343400"/>
            <a:ext cx="777240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1523880" y="3123360"/>
            <a:ext cx="990720" cy="762120"/>
          </a:xfrm>
          <a:custGeom>
            <a:avLst/>
            <a:gdLst>
              <a:gd name="textAreaLeft" fmla="*/ 132480 w 990720"/>
              <a:gd name="textAreaRight" fmla="*/ 858240 w 99072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Ein Java-Beispiel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47" name=""/>
          <p:cNvSpPr/>
          <p:nvPr/>
        </p:nvSpPr>
        <p:spPr>
          <a:xfrm>
            <a:off x="1630440" y="1600200"/>
            <a:ext cx="6522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* Gib alle Notizen dieses Notizbuchs auf d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* Konsole au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public void notizenAusgebe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int index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while(index &lt; notizen.size(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System.out.println(notizen.get(index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index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15880" y="5078520"/>
            <a:ext cx="1366200" cy="407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höht um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3352320" y="4419360"/>
            <a:ext cx="684360" cy="67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Eine Sammlung durchlaufen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51" name=""/>
          <p:cNvSpPr/>
          <p:nvPr/>
        </p:nvSpPr>
        <p:spPr>
          <a:xfrm>
            <a:off x="1311120" y="2494080"/>
            <a:ext cx="6490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terator it = meineSammlung.iterato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it.hasNext()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olange es noch ein weiteres Element gib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ole mi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t.next()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das nächste Objek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ue etwas mit diesem Objek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9040" y="1905120"/>
            <a:ext cx="1700280" cy="407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va.util.It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38480" y="2133720"/>
            <a:ext cx="428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62600" y="1625400"/>
            <a:ext cx="2828880" cy="711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s e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terator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bjek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638320" y="2209680"/>
            <a:ext cx="4287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1600200"/>
            <a:ext cx="777240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23360" y="4324320"/>
            <a:ext cx="5392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</a:t>
            </a: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notizenAusgeben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terator it = notizen.iterato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it.hasNext(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it.next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426708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Zentrale Konzepte</a:t>
            </a:r>
            <a:br>
              <a:rPr sz="4400"/>
            </a:b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520" y="220932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ammlungen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Collections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chleifen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Loops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teratoren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Iterators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rrays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Arrays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Ein Auktionssystem</a:t>
            </a:r>
            <a:br>
              <a:rPr sz="4400"/>
            </a:b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dc4a1a"/>
                </a:solidFill>
                <a:latin typeface="Trebuchet MS"/>
              </a:rPr>
              <a:t>(Projekt </a:t>
            </a:r>
            <a:r>
              <a:rPr b="0" i="1" lang="en-US" sz="3200" spc="-1" strike="noStrike">
                <a:solidFill>
                  <a:srgbClr val="dc4a1a"/>
                </a:solidFill>
                <a:latin typeface="Trebuchet MS"/>
              </a:rPr>
              <a:t>auktion</a:t>
            </a:r>
            <a:r>
              <a:rPr b="0" lang="en-US" sz="3200" spc="-1" strike="noStrike">
                <a:solidFill>
                  <a:srgbClr val="dc4a1a"/>
                </a:solidFill>
                <a:latin typeface="Trebuchet MS"/>
              </a:rPr>
              <a:t>)</a:t>
            </a:r>
            <a:endParaRPr b="0" lang="en-US" sz="32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as Projekt </a:t>
            </a:r>
            <a:r>
              <a:rPr b="0" i="1" lang="en-US" sz="3200" spc="-1" strike="noStrike">
                <a:solidFill>
                  <a:srgbClr val="000000"/>
                </a:solidFill>
                <a:latin typeface="Trebuchet MS"/>
              </a:rPr>
              <a:t>auktion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 gibt eine weitere Illustration von Sammlungen und Iteratione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Zwei neue Sachen zu betrachten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r Wer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asting. Notwendig wenn e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et-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Resultat in einer Variable gespeichert wird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08576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meldung = (String) notizen.get(0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Zusammenfassung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18960" y="1447560"/>
            <a:ext cx="7467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chleifen werden benutzt, um einen Block von Anweisungen wiederholt auszuführe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ine Java while-Schleife lässt die Wiederholung </a:t>
            </a: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kontrollieren mit einem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boolean-Ausdruck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ammlungsklassen haben speziell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terator-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Objekte womit man einfach alle Elemente der Sammlung durchlaufen kan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Sammlungen mit fester  G</a:t>
            </a:r>
            <a:r>
              <a:rPr b="0" lang="nl-NL" sz="4400" spc="-1" strike="noStrike">
                <a:solidFill>
                  <a:srgbClr val="dc4a1a"/>
                </a:solidFill>
                <a:latin typeface="Trebuchet MS"/>
              </a:rPr>
              <a:t>röße</a:t>
            </a: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7467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anchmal ist die maximalen Elementzahl im Voraus festgelegt.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ogrammiersprachen haben meistens einen speziellen Typ dafür: ein </a:t>
            </a:r>
            <a:r>
              <a:rPr b="0" i="1" lang="en-US" sz="3200" spc="-1" strike="noStrike">
                <a:solidFill>
                  <a:srgbClr val="000000"/>
                </a:solidFill>
                <a:latin typeface="Trebuchet MS"/>
              </a:rPr>
              <a:t>Array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Java-Arrays können Objekte oder Werte eines primitive-Typs speicher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rrays benutzen eine spezielle Syntax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Das Projekt </a:t>
            </a:r>
            <a:r>
              <a:rPr b="0" i="1" lang="en-US" sz="4400" spc="-1" strike="noStrike">
                <a:solidFill>
                  <a:srgbClr val="dc4a1a"/>
                </a:solidFill>
                <a:latin typeface="Trebuchet MS"/>
              </a:rPr>
              <a:t>weblog-analyzer</a:t>
            </a: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18960" y="12193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ebserver verwalten üblicherweise Daten, von den Zugriffen auf den Webseite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ufgaben der Webmaster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eliebteste Seiten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Stark besuchte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Perioden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ie viele Daten sind an Kunden geliefert worden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fekte Links (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Broken references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nalysiere die Zugriffe pro Stunde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Erzeugung eines Array-Objekt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1676520"/>
            <a:ext cx="7829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* Eine Klasse, die das Protokoll eines Web-Ser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* in Hinsicht auf Zugriffe pro Stunde auswert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public class ProtokollAuswerter     // LogAnaly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private int[] zugriffeInStun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public ProtokollAuswerter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// das Array-Objekt erzeugen, das die Zugrif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// in den einzelnen Stunden eines Tages zähl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zugriffeInStunde = new int[24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551640" y="5406840"/>
            <a:ext cx="2212920" cy="711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ray-Object erzeu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24480" y="3299760"/>
            <a:ext cx="2400480" cy="642600"/>
          </a:xfrm>
          <a:prstGeom prst="roundRect">
            <a:avLst>
              <a:gd name="adj" fmla="val 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ray-Variable deklarie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5932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Das Array </a:t>
            </a:r>
            <a:r>
              <a:rPr b="0" i="1" lang="en-US" sz="4400" spc="-1" strike="noStrike">
                <a:solidFill>
                  <a:srgbClr val="dc4a1a"/>
                </a:solidFill>
                <a:latin typeface="Trebuchet MS"/>
              </a:rPr>
              <a:t>zugriffeInStunde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7724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Ein Array benutzen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uf die einzelnen Elemente eines Arrays wird über einen Index (zwischen eckigen Klammern) zugegriffen.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ugriffeInStunde[...]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lemente eines Arrays werden benutzt wie normale Variablen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uf der linken Seite einer zuweisung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ugriffeInStunde[stunde] = ...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 einem Ausdruck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(expression)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ngepasst = zugriffeInStunde[stunde]– 3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ugriffeInStunde[stunde]++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Die for-Schleife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Ähnlich wie eine while-Schleife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ft benutzt wenn die Anzahl der wiederholungen von vornherein feststeht.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ft benutzt wenn wir jedes Element eines Arrays bearbeiten wolle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For-Schleife Pseudocode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990720" y="2570040"/>
            <a:ext cx="813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lisierung; Bedingung; Aktion nach dem Rumpf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nweisungen, die wiederholt werden sol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76160" y="1981080"/>
            <a:ext cx="3588480" cy="407880"/>
          </a:xfrm>
          <a:prstGeom prst="roundRect">
            <a:avLst>
              <a:gd name="adj" fmla="val 16667"/>
            </a:avLst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elle Struktur einer for-Schlei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32960" y="3936960"/>
            <a:ext cx="2734920" cy="407880"/>
          </a:xfrm>
          <a:prstGeom prst="roundRect">
            <a:avLst>
              <a:gd name="adj" fmla="val 16667"/>
            </a:avLst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Äquivalente while-Schlei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71600" y="4654440"/>
            <a:ext cx="605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lisieru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edingu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nweisungen, die wiederholt werden sol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ktion nach dem Rump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1828800"/>
            <a:ext cx="77724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3000" y="3809880"/>
            <a:ext cx="746748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Ein Java-Beispiel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2570040"/>
            <a:ext cx="1030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for(int st = 0; st &lt; zugriffeInStunde.length; st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System.out.println(st + ": " + zugriffeInStunde[st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74520" y="4703760"/>
            <a:ext cx="7998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st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(</a:t>
            </a: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st &lt; zugriffeInStunde.length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st + ": " + zugriffeInStunde[st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498480" y="1854360"/>
            <a:ext cx="2146680" cy="407880"/>
          </a:xfrm>
          <a:prstGeom prst="roundRect">
            <a:avLst>
              <a:gd name="adj" fmla="val 16667"/>
            </a:avLst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-Schleife V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47640" y="4164120"/>
            <a:ext cx="2448360" cy="407880"/>
          </a:xfrm>
          <a:prstGeom prst="roundRect">
            <a:avLst>
              <a:gd name="adj" fmla="val 16667"/>
            </a:avLst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ile-Schleife Vers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" y="1676520"/>
            <a:ext cx="8001000" cy="19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3962520"/>
            <a:ext cx="784872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Der Bedarf Objekte in Sammlungen zu gruppieren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Viele Anwendungen enthalten Sammlungen von Objekten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ers</a:t>
            </a: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önliche Digitale Assistenten (PDAs)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ibliothek-Katalog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entdaten-System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ie Anzahl der zu verwaltenden Elemente ver</a:t>
            </a: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ändert sich über die Zeit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lemente hinzugefügt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lemente gelöscht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696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Zusammenfassung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7467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rrays sind geeignet, wenn die maximale Elementzahl im Voraus festgelegt ist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rrays benutzen eine spezielle Syntax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r-Schleifen bieten eine Alternative für while-Schleifen wenn die Anzahl der Wiederholungen feststeht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r-Schleifen werden oft benutzt, wenn wir jedes Element eines Arrays bearbeiten wolle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rebuchet MS"/>
              </a:rPr>
              <a:t>Ein pers</a:t>
            </a:r>
            <a:r>
              <a:rPr b="0" lang="nl-NL" sz="4400" spc="-1" strike="noStrike">
                <a:solidFill>
                  <a:srgbClr val="ff0000"/>
                </a:solidFill>
                <a:latin typeface="Trebuchet MS"/>
              </a:rPr>
              <a:t>önliches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rebuchet MS"/>
              </a:rPr>
              <a:t> Notizbuch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Notizen können gespeichert werde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15360" indent="-31536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inzelne Notizen können angezeigt werde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15360" indent="-31536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ie Anzahl der Notizen ist nicht begrenzt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15360" indent="-31536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ie Anzahl der Notizen kann abgefragt werde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15360" indent="-31536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Untersuche das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Projekt </a:t>
            </a:r>
            <a:r>
              <a:rPr b="0" i="1" lang="en-US" sz="3200" spc="-1" strike="noStrike">
                <a:solidFill>
                  <a:srgbClr val="000000"/>
                </a:solidFill>
                <a:latin typeface="Trebuchet MS"/>
              </a:rPr>
              <a:t>Notizbuch1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Bibliotheksklassen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8960" y="1447560"/>
            <a:ext cx="7467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ammlungen von </a:t>
            </a: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brauchbaren K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asse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ir brauchen nicht alles aufs Neue zu entwickel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Java nennt ihre Bibliotheke </a:t>
            </a:r>
            <a:r>
              <a:rPr b="0" i="1" lang="en-US" sz="3200" spc="-1" strike="noStrike">
                <a:solidFill>
                  <a:srgbClr val="000000"/>
                </a:solidFill>
                <a:latin typeface="Trebuchet MS"/>
              </a:rPr>
              <a:t>Pakete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packages)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bjekte </a:t>
            </a: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gruppieren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ist immer wieder notwendig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as Pake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enthält Klassen, um dies zu tun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066680" y="380880"/>
            <a:ext cx="78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java.util.ArrayLis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public class Notizbu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// Speicher für eine beliebige Anzahl Notiz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private ArrayList notize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* Führe die Initialisierungen durch, die für e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* Notizbuch notwendig si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public Notizbuch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notizen = new ArrayLis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nl-NL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Objektstrukturen mit Sammlungen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43000" y="1901880"/>
            <a:ext cx="723888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rebuchet MS"/>
              </a:rPr>
              <a:t>Ein drittes Element einf</a:t>
            </a:r>
            <a:r>
              <a:rPr b="0" lang="nl-NL" sz="4400" spc="-1" strike="noStrike">
                <a:solidFill>
                  <a:srgbClr val="ff0000"/>
                </a:solidFill>
                <a:latin typeface="Trebuchet MS"/>
              </a:rPr>
              <a:t>ügen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80769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924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c4a1a"/>
                </a:solidFill>
                <a:latin typeface="Trebuchet MS"/>
              </a:rPr>
              <a:t>Eigenschaften einer</a:t>
            </a: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 Sammlung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e kann ihre Kapazität bei Bedarf vergrößer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e führt Buch über die aktuelle Anzahl der Elemente (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ize()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accessor)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e behält die Reihenfolge bei, in der Objekte eingefügt werde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etails, wie dieses implementiert ist, sind verborgen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hidden)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s reicht uns, wenn wir die Klasse schlicht und einfach benutzen können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09:04:06Z</dcterms:created>
  <dc:creator>David J. Barnes, Michael Kölling</dc:creator>
  <dc:description>Copyright © David J. Barnes, Michael Kölling</dc:description>
  <dc:language>en-US</dc:language>
  <cp:lastModifiedBy>Fontys ICT Services</cp:lastModifiedBy>
  <cp:lastPrinted>2002-09-23T11:24:27Z</cp:lastPrinted>
  <dcterms:modified xsi:type="dcterms:W3CDTF">2004-05-27T09:08:32Z</dcterms:modified>
  <cp:revision>60</cp:revision>
  <dc:subject/>
  <dc:title>Objects First With Java - Chapter 4</dc:title>
</cp:coreProperties>
</file>