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073-F3BB-433E-945E-1A26EE6DF339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2400" y="2514240"/>
            <a:ext cx="739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interaktio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usammenarbeitende Objekte erzeug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Primitive Typen vs. Objekttyp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63868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743200"/>
            <a:ext cx="7617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895480"/>
            <a:ext cx="1828800" cy="1295640"/>
          </a:xfrm>
          <a:prstGeom prst="roundRect">
            <a:avLst>
              <a:gd name="adj" fmla="val 16667"/>
            </a:avLst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30481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133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omeObject 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2819520"/>
            <a:ext cx="7617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62720" y="31240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209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omeObject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6386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5029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b = 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19320" y="46832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334120" y="46832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Quelltext: Nummernanzeig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06856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//Konstru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Nummernanzeige(int anzeigeLim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limit = anzeigeLi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wer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void erhoeh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wert = (wert + 1) % lim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Quelltext: Nummernanzeig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362320"/>
            <a:ext cx="746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String gibAnzeigewe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if(wert &lt;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return "0" + we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return "" + we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e erzeugen Objek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6002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class Uhrenanz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Nummernanzeige stun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Nummernanzeige minut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String zeitanzeig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Uhrenanzeig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stunden = new Nummernanzeige(2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minuten = new Nummernanzeige(6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anzeigeAktualisiere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ethodenaufrufe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void taktsignalGeb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minuten.erhoehe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if(minuten.gibWert() == 0)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// Limit wurde erreic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stunden.erhoehe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anzeigeAktualisiere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Interner Metho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9810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* Aktualisiere die interne Zeichenkette, * die die Zeitanzeige hä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void anzeigeAktualisier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zeitanzeige=stunden.gibAnzeigewe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+ ":”+ minuten.gibAnzeigewert();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diagramm Uhrenanzeige 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e erzeugen Objek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8006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stunden = new Nummernanzeige(24)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public Nummernanzeige(int anzeigeGrenze)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6400" y="426708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rebuchet MS"/>
              </a:rPr>
              <a:t>in der Klasse Uhrenanzei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480" y="190512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Trebuchet MS"/>
              </a:rPr>
              <a:t>in der Klasse Nummernanzei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286000"/>
            <a:ext cx="3124440" cy="990720"/>
          </a:xfrm>
          <a:prstGeom prst="wedgeEllipseCallout">
            <a:avLst>
              <a:gd name="adj1" fmla="val -39175"/>
              <a:gd name="adj2" fmla="val 68430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648320"/>
            <a:ext cx="762120" cy="761760"/>
          </a:xfrm>
          <a:prstGeom prst="wedgeEllipseCallout">
            <a:avLst>
              <a:gd name="adj1" fmla="val -137916"/>
              <a:gd name="adj2" fmla="val 87291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15240" y="3429000"/>
            <a:ext cx="33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d9692c"/>
                </a:solidFill>
                <a:latin typeface="Trebuchet MS"/>
              </a:rPr>
              <a:t>formaler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1880" y="563868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d9692c"/>
                </a:solidFill>
                <a:latin typeface="Trebuchet MS"/>
              </a:rPr>
              <a:t>aktueller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ethodenaufruf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interner Methodenaufru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zeigeAktualisieren(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void anzeigeAktualisieren(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xterner Methodenaufruf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nuten.erhoehen(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ethodenaufrufe (2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28951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enNa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ameterli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ine Digitaluh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931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onzep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Abstrak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Modularisieru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Klassen definieren Typ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Klassendiagram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diagram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referenz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imitive Typ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typ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erzeugu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Überladu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(overloadin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interner/externer Methodenaufru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ebugg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Abstraktion und Modularisierung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467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Abstraktion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ist die F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ä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higkeit, Details von Bestandteilen zu ignorieren, um die Betrachtung eines Problems auf eine h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öhere Ebene zu fokussier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rebuchet MS"/>
              </a:rPr>
              <a:t>Modularisierung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ist der Prozess der Zerlegung eines Ganzen in gut definierte Teile, die getrennt erstellt und untersucht werden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önnen und die in gut definierter Weise interagier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odularisierung in der Anzeige einer Digitaluh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1968480" cy="1168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1282680" cy="116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282680" cy="1168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1000" y="27338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ine vierziffrige Anzei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4197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der zwei zweiziffrige Anzei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Implementierung - Nummernanzeig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39116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Nummernanz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private int limi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private int wer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ourier New"/>
              </a:rPr>
              <a:t>Konstruktor und Methoden weggelassen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Implementierung - Uhrenanzeig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36232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ublic class Uhrenanz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Nummernanzeige stund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private Nummernanzeige minut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Courier New"/>
              </a:rPr>
              <a:t>Konstruktor und Methoden wegge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diagramm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diagramm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Primitive Typen vs. Objekttyp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52578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9718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3124080"/>
            <a:ext cx="1828800" cy="1295640"/>
          </a:xfrm>
          <a:prstGeom prst="roundRect">
            <a:avLst>
              <a:gd name="adj" fmla="val 16667"/>
            </a:avLst>
          </a:prstGeom>
          <a:solidFill>
            <a:srgbClr val="c9c9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27672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28480" y="251460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t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99400" y="518148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imitiver T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23623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omeObject obj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6483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3581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Refere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vid J. Barnes, Michael Kölling</dc:creator>
  <dc:description>Copyright © David J. Barnes, Michael Kölling</dc:description>
  <dc:language>en-US</dc:language>
  <cp:lastModifiedBy>Fontys ICT Services</cp:lastModifiedBy>
  <dcterms:modified xsi:type="dcterms:W3CDTF">2004-05-27T08:01:30Z</dcterms:modified>
  <cp:revision>71</cp:revision>
  <dc:subject/>
  <dc:title>Objects First With Java - Chapter 3</dc:title>
</cp:coreProperties>
</file>