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4a1a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18960" y="1981080"/>
            <a:ext cx="7467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218960" y="4130640"/>
            <a:ext cx="7467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4a1a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18960" y="198108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45400" y="198108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18960" y="413064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45400" y="413064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4a1a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218960" y="1981080"/>
            <a:ext cx="240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44000" y="1981080"/>
            <a:ext cx="240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269040" y="1981080"/>
            <a:ext cx="240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218960" y="4130640"/>
            <a:ext cx="240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44000" y="4130640"/>
            <a:ext cx="240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269040" y="4130640"/>
            <a:ext cx="240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4a1a"/>
              </a:solidFill>
              <a:latin typeface="Trebuchet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2189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4a1a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189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4a1a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18960" y="1981080"/>
            <a:ext cx="364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45400" y="1981080"/>
            <a:ext cx="364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4a1a"/>
              </a:solidFill>
              <a:latin typeface="Trebuchet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990720" y="60912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4a1a"/>
              </a:solidFill>
              <a:latin typeface="Trebuchet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18960" y="198108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45400" y="1981080"/>
            <a:ext cx="364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218960" y="413064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4a1a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2189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4a1a"/>
              </a:solidFill>
              <a:latin typeface="Trebuchet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18960" y="1981080"/>
            <a:ext cx="364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5400" y="198108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45400" y="413064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4a1a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18960" y="198108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5400" y="198108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218960" y="4130640"/>
            <a:ext cx="7467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4a1a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18960" y="1981080"/>
            <a:ext cx="7467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218960" y="4130640"/>
            <a:ext cx="7467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4a1a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8960" y="198108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45400" y="198108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218960" y="413064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45400" y="413064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4a1a"/>
              </a:solidFill>
              <a:latin typeface="Trebuchet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18960" y="1981080"/>
            <a:ext cx="240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744000" y="1981080"/>
            <a:ext cx="240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269040" y="1981080"/>
            <a:ext cx="240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218960" y="4130640"/>
            <a:ext cx="240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744000" y="4130640"/>
            <a:ext cx="240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269040" y="4130640"/>
            <a:ext cx="240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4a1a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189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4a1a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18960" y="1981080"/>
            <a:ext cx="364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45400" y="1981080"/>
            <a:ext cx="364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4a1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90720" y="60912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4a1a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18960" y="198108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5400" y="1981080"/>
            <a:ext cx="364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218960" y="413064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4a1a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218960" y="1981080"/>
            <a:ext cx="364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45400" y="198108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45400" y="413064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4a1a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218960" y="198108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45400" y="198108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218960" y="4130640"/>
            <a:ext cx="7467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c4a1a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dc4a1a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189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7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914040" y="6426360"/>
            <a:ext cx="71629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bjektorientierte Programmierung mit Java und BlueJ      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© David J. Barnes, Michael Köl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001000" y="6426360"/>
            <a:ext cx="5335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DB23A-0339-46B3-B168-112F45543C39}" type="slidenum">
              <a:rPr b="0" lang="da-D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da-DK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 rot="5400000">
            <a:off x="-3071160" y="3040560"/>
            <a:ext cx="6858000" cy="77652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915400" y="0"/>
            <a:ext cx="228600" cy="6858000"/>
          </a:xfrm>
          <a:prstGeom prst="rect">
            <a:avLst/>
          </a:prstGeom>
          <a:solidFill>
            <a:srgbClr val="dc4a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 rot="5400000">
            <a:off x="-3053520" y="3040920"/>
            <a:ext cx="6858000" cy="77616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8915400" y="0"/>
            <a:ext cx="228600" cy="6858000"/>
          </a:xfrm>
          <a:prstGeom prst="rect">
            <a:avLst/>
          </a:prstGeom>
          <a:solidFill>
            <a:srgbClr val="dc4a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90720" y="2514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c4a1a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dc4a1a"/>
              </a:solidFill>
              <a:latin typeface="Trebuchet MS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 rot="5400000">
            <a:off x="-3071160" y="3040560"/>
            <a:ext cx="6858000" cy="7765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8915400" y="0"/>
            <a:ext cx="228600" cy="6858000"/>
          </a:xfrm>
          <a:prstGeom prst="rect">
            <a:avLst/>
          </a:prstGeom>
          <a:solidFill>
            <a:srgbClr val="dc4a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 rot="5400000">
            <a:off x="-3053520" y="3040920"/>
            <a:ext cx="6858000" cy="7761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8915400" y="0"/>
            <a:ext cx="228600" cy="6858000"/>
          </a:xfrm>
          <a:prstGeom prst="rect">
            <a:avLst/>
          </a:prstGeom>
          <a:solidFill>
            <a:srgbClr val="dc4a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90720" y="990720"/>
            <a:ext cx="76960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rebuchet MS"/>
              </a:rPr>
              <a:t>Objektorientierte Programmierung mit Java</a:t>
            </a:r>
            <a:br>
              <a:rPr sz="2400"/>
            </a:br>
            <a:br>
              <a:rPr sz="800"/>
            </a:br>
            <a:r>
              <a:rPr b="0" lang="en-GB" sz="1800" spc="-1" strike="noStrike">
                <a:solidFill>
                  <a:srgbClr val="ff0000"/>
                </a:solidFill>
                <a:latin typeface="Trebuchet MS"/>
              </a:rPr>
              <a:t>Eine praxisnahe </a:t>
            </a:r>
            <a:r>
              <a:rPr b="0" lang="de-DE" sz="1800" spc="-1" strike="noStrike">
                <a:solidFill>
                  <a:srgbClr val="ff0000"/>
                </a:solidFill>
                <a:latin typeface="Trebuchet MS"/>
              </a:rPr>
              <a:t>Einf</a:t>
            </a:r>
            <a:r>
              <a:rPr b="0" lang="nl-NL" sz="1800" spc="-1" strike="noStrike">
                <a:solidFill>
                  <a:srgbClr val="ff0000"/>
                </a:solidFill>
                <a:latin typeface="Trebuchet MS"/>
              </a:rPr>
              <a:t>ü</a:t>
            </a:r>
            <a:r>
              <a:rPr b="0" lang="de-DE" sz="1800" spc="-1" strike="noStrike">
                <a:solidFill>
                  <a:srgbClr val="ff0000"/>
                </a:solidFill>
                <a:latin typeface="Trebuchet MS"/>
              </a:rPr>
              <a:t>hrung mit </a:t>
            </a:r>
            <a:r>
              <a:rPr b="0" lang="en-GB" sz="1800" spc="-1" strike="noStrike">
                <a:solidFill>
                  <a:srgbClr val="ff0000"/>
                </a:solidFill>
                <a:latin typeface="Trebuchet MS"/>
              </a:rPr>
              <a:t> Blue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rebuchet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90720" y="2514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c4a1a"/>
                </a:solidFill>
                <a:latin typeface="Trebuchet MS"/>
              </a:rPr>
              <a:t>Vermeiden von Fehlern</a:t>
            </a:r>
            <a:endParaRPr b="0" lang="en-US" sz="4400" spc="-1" strike="noStrike">
              <a:solidFill>
                <a:srgbClr val="dc4a1a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67652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rebuchet MS"/>
              </a:rPr>
              <a:t>Testen und Fehlerbeseitigung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9" name=""/>
          <p:cNvSpPr/>
          <p:nvPr/>
        </p:nvSpPr>
        <p:spPr>
          <a:xfrm>
            <a:off x="8478720" y="6537240"/>
            <a:ext cx="357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rebuchet MS"/>
              </a:rPr>
              <a:t>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c4a1a"/>
                </a:solidFill>
                <a:latin typeface="Trebuchet MS"/>
              </a:rPr>
              <a:t>Tests automatisieren</a:t>
            </a:r>
            <a:endParaRPr b="0" lang="en-US" sz="4400" spc="-1" strike="noStrike">
              <a:solidFill>
                <a:srgbClr val="dc4a1a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4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7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Testen ist ein </a:t>
            </a:r>
            <a:r>
              <a:rPr b="0" lang="de-DE" sz="2800" spc="-1" strike="noStrike">
                <a:solidFill>
                  <a:srgbClr val="000000"/>
                </a:solidFill>
                <a:latin typeface="Trebuchet MS"/>
              </a:rPr>
              <a:t>kreativer Prozess, aber ..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7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... Gründliches Testen ist zeitaufwändig und relativ langweilig.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7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Ein </a:t>
            </a:r>
            <a:r>
              <a:rPr b="0" i="1" lang="en-US" sz="2800" spc="-1" strike="noStrike">
                <a:solidFill>
                  <a:srgbClr val="000000"/>
                </a:solidFill>
                <a:latin typeface="Trebuchet MS"/>
              </a:rPr>
              <a:t>Regressionstest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 wird nach jeder Änderung an der Software wiederholt.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7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Ein </a:t>
            </a:r>
            <a:r>
              <a:rPr b="0" i="1" lang="en-US" sz="2800" spc="-1" strike="noStrike">
                <a:solidFill>
                  <a:srgbClr val="000000"/>
                </a:solidFill>
                <a:latin typeface="Trebuchet MS"/>
              </a:rPr>
              <a:t>Testgerüst 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 erleichtert alles 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7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Ein Regressionstest wird damit automatisiert.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Es wird eine Testgerüstklasse geschrieben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Jede Methode repräsentiert einen einzelnen Test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Das Schreiben von Testgerüstklassen ist sehr kreativ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c4a1a"/>
                </a:solidFill>
                <a:latin typeface="Trebuchet MS"/>
              </a:rPr>
              <a:t>Tests automatisieren</a:t>
            </a:r>
            <a:endParaRPr b="0" lang="en-US" sz="4400" spc="-1" strike="noStrike">
              <a:solidFill>
                <a:srgbClr val="dc4a1a"/>
              </a:solidFill>
              <a:latin typeface="Trebuchet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18960" y="1371240"/>
            <a:ext cx="7467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7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Untersuche das Projekt </a:t>
            </a:r>
            <a:r>
              <a:rPr b="0" i="1" lang="en-US" sz="3200" spc="-1" strike="noStrike">
                <a:solidFill>
                  <a:srgbClr val="000000"/>
                </a:solidFill>
                <a:latin typeface="Trebuchet MS"/>
              </a:rPr>
              <a:t>Terminkalender-testen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Analyse der </a:t>
            </a:r>
            <a:r>
              <a:rPr b="0" lang="de-DE" sz="2800" spc="-1" strike="noStrike">
                <a:solidFill>
                  <a:srgbClr val="000000"/>
                </a:solidFill>
                <a:latin typeface="Trebuchet MS"/>
              </a:rPr>
              <a:t>Ergebnisse durch einen Menschen ist nach wie vor erforderlich.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29040" indent="-329040">
              <a:spcBef>
                <a:spcPts val="799"/>
              </a:spcBef>
              <a:buClr>
                <a:srgbClr val="7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Untersuche weitere Automatisierung bei dem Projekt </a:t>
            </a:r>
            <a:r>
              <a:rPr b="0" i="1" lang="en-US" sz="3200" spc="-1" strike="noStrike">
                <a:solidFill>
                  <a:srgbClr val="000000"/>
                </a:solidFill>
                <a:latin typeface="Trebuchet MS"/>
              </a:rPr>
              <a:t>Terminkalender-Auto-Test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Ein Mensch müsste nur noch eingreifen,  wenn ein Test ein Problem signaliert.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c4a1a"/>
                </a:solidFill>
                <a:latin typeface="Trebuchet MS"/>
              </a:rPr>
              <a:t>Modularisierung und Schnittstellen</a:t>
            </a:r>
            <a:endParaRPr b="0" lang="en-US" sz="4400" spc="-1" strike="noStrike">
              <a:solidFill>
                <a:srgbClr val="dc4a1a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189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7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Anwendungen haben oft mehrere Module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o können verschiedene Gruppen am Projekt arbeiten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29040" indent="-329040">
              <a:spcBef>
                <a:spcPts val="700"/>
              </a:spcBef>
              <a:buClr>
                <a:srgbClr val="7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Die </a:t>
            </a:r>
            <a:r>
              <a:rPr b="0" i="1" lang="en-US" sz="2800" spc="-1" strike="noStrike">
                <a:solidFill>
                  <a:srgbClr val="000000"/>
                </a:solidFill>
                <a:latin typeface="Trebuchet MS"/>
              </a:rPr>
              <a:t>Schnittstelle 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zwischen den Modulen muss klar und deutlich definiert sein.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29040" indent="-329040">
              <a:spcBef>
                <a:spcPts val="700"/>
              </a:spcBef>
              <a:buClr>
                <a:srgbClr val="7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Dies unterstützt unabhängige gleichzeitige Entwicklung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rebuchet MS"/>
              </a:rPr>
              <a:t>Dies erhöht die Aussicht auf eine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erfolgreiche Integration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c4a1a"/>
                </a:solidFill>
                <a:latin typeface="Trebuchet MS"/>
              </a:rPr>
              <a:t>Modularisierung in einem Taschenrechner</a:t>
            </a:r>
            <a:endParaRPr b="0" lang="en-US" sz="4400" spc="-1" strike="noStrike">
              <a:solidFill>
                <a:srgbClr val="dc4a1a"/>
              </a:solidFill>
              <a:latin typeface="Trebuchet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447560" y="3809880"/>
            <a:ext cx="708660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7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Jedes Modul braucht keine </a:t>
            </a:r>
            <a:r>
              <a:rPr b="0" lang="de-DE" sz="2400" spc="-1" strike="noStrike">
                <a:solidFill>
                  <a:srgbClr val="000000"/>
                </a:solidFill>
                <a:latin typeface="Trebuchet MS"/>
              </a:rPr>
              <a:t>Kenntnis</a:t>
            </a:r>
            <a:r>
              <a:rPr b="0" lang="de-DE" sz="2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rebuchet MS"/>
              </a:rPr>
              <a:t>von 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Details der Implementierung des anderen Moduls 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Die Benutzereingabe könnte eine GUI sein oder  Hardware in Form eines Handgeräts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Die arithmetisch-logischen Einheit sollte von diesen Unterschieden nicht betroffen sein.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447920" y="1828800"/>
            <a:ext cx="678168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c4a1a"/>
                </a:solidFill>
                <a:latin typeface="Trebuchet MS"/>
              </a:rPr>
              <a:t>Methodensignaturen als eine Schnittstelle </a:t>
            </a:r>
            <a:endParaRPr b="0" lang="en-US" sz="4400" spc="-1" strike="noStrike">
              <a:solidFill>
                <a:srgbClr val="dc4a1a"/>
              </a:solidFill>
              <a:latin typeface="Trebuchet MS"/>
            </a:endParaRPr>
          </a:p>
        </p:txBody>
      </p:sp>
      <p:sp>
        <p:nvSpPr>
          <p:cNvPr id="116" name=""/>
          <p:cNvSpPr/>
          <p:nvPr/>
        </p:nvSpPr>
        <p:spPr>
          <a:xfrm>
            <a:off x="838080" y="1447920"/>
            <a:ext cx="83059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ourier New"/>
              </a:rPr>
              <a:t>// Liefere den Wert, der aktuell in de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ourier New"/>
              </a:rPr>
              <a:t>// Anzeige gezeigt werden so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ourier New"/>
              </a:rPr>
              <a:t>public int gibAnzeigewert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ourier New"/>
              </a:rPr>
              <a:t>// Eine Zifferntaste wurde getipp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ourier New"/>
              </a:rPr>
              <a:t>public void zifferGetippt(int ziffer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ourier New"/>
              </a:rPr>
              <a:t>// Die Plus-Taste wurde getipp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ourier New"/>
              </a:rPr>
              <a:t>public void plus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ourier New"/>
              </a:rPr>
              <a:t>// Die Minus-Taste wurde getipp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ourier New"/>
              </a:rPr>
              <a:t>public void minus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ourier New"/>
              </a:rPr>
              <a:t>// Die Gleich-Taste wurde getippt, Berechnung abschließe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ourier New"/>
              </a:rPr>
              <a:t>public void gleich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ourier New"/>
              </a:rPr>
              <a:t>// Die C-Taste (für 'Clear') wurde getipp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ourier New"/>
              </a:rPr>
              <a:t>// Die Recheneinheit in den Anfangszustand versetzen. public void clear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477120" y="1752480"/>
            <a:ext cx="22860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c4a1a"/>
                </a:solidFill>
                <a:latin typeface="Trebuchet MS"/>
              </a:rPr>
              <a:t>Fehlerbeseitigung</a:t>
            </a:r>
            <a:endParaRPr b="0" lang="en-US" sz="4400" spc="-1" strike="noStrike">
              <a:solidFill>
                <a:srgbClr val="dc4a1a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Es ist wichtig </a:t>
            </a:r>
            <a:r>
              <a:rPr b="0" lang="de-DE" sz="3200" spc="-1" strike="noStrike">
                <a:solidFill>
                  <a:srgbClr val="000000"/>
                </a:solidFill>
                <a:latin typeface="Trebuchet MS"/>
              </a:rPr>
              <a:t>Fertigkeiten zu entwickeln, um Quelltext zu lesen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Debugging geschieht oft mit Code von anderen Leute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Es gibt Techniken und Werkzeuge zur Unterstützung des Debugging-Prozesses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7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Untersuche das Projekt </a:t>
            </a:r>
            <a:r>
              <a:rPr b="0" i="1" lang="en-US" sz="3200" spc="-1" strike="noStrike">
                <a:solidFill>
                  <a:srgbClr val="000000"/>
                </a:solidFill>
                <a:latin typeface="Trebuchet MS"/>
              </a:rPr>
              <a:t>Recheneinheit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c4a1a"/>
                </a:solidFill>
                <a:latin typeface="Trebuchet MS"/>
              </a:rPr>
              <a:t>Manuelle Ausführung</a:t>
            </a:r>
            <a:endParaRPr b="0" lang="en-US" sz="4400" spc="-1" strike="noStrike">
              <a:solidFill>
                <a:srgbClr val="dc4a1a"/>
              </a:solidFill>
              <a:latin typeface="Trebuchet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2189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7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Relativ wenig eingesetzt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Eine “untechnische” Technik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Allerdings sehr nützlich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22200" indent="-322200">
              <a:spcBef>
                <a:spcPts val="799"/>
              </a:spcBef>
              <a:buClr>
                <a:srgbClr val="7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Gehen sie  weit weg von Ihrem Computer!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22200" indent="-322200">
              <a:spcBef>
                <a:spcPts val="799"/>
              </a:spcBef>
              <a:buClr>
                <a:srgbClr val="7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‘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Run’ das Programm manuell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22200" indent="-322200">
              <a:spcBef>
                <a:spcPts val="799"/>
              </a:spcBef>
              <a:buClr>
                <a:srgbClr val="7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High-level (Schritt) Sicht oder low-level (Schritt hinein) Sicht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c4a1a"/>
                </a:solidFill>
                <a:latin typeface="Trebuchet MS"/>
              </a:rPr>
              <a:t>Kontrollieren des Zustands eines Objekts </a:t>
            </a:r>
            <a:endParaRPr b="0" lang="en-US" sz="4400" spc="-1" strike="noStrike">
              <a:solidFill>
                <a:srgbClr val="dc4a1a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7467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7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Das Verhalten eines Objekts hängt meistens ab von dem internen Zustand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15360" indent="-315360">
              <a:spcBef>
                <a:spcPts val="799"/>
              </a:spcBef>
              <a:buClr>
                <a:srgbClr val="7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Inkorrektes Verhalten ist oft die Folge eines inkorrekten Zustandes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15360" indent="-315360">
              <a:spcBef>
                <a:spcPts val="799"/>
              </a:spcBef>
              <a:buClr>
                <a:srgbClr val="7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abelliere die Werte aller Datenfelder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15360" indent="-315360">
              <a:spcBef>
                <a:spcPts val="799"/>
              </a:spcBef>
              <a:buClr>
                <a:srgbClr val="7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Dokumentiere Zustandsänderungen nach jedem Methodenaufruf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c4a1a"/>
                </a:solidFill>
                <a:latin typeface="Trebuchet MS"/>
              </a:rPr>
              <a:t>Mündliche Ausführung</a:t>
            </a:r>
            <a:endParaRPr b="0" lang="en-US" sz="4400" spc="-1" strike="noStrike">
              <a:solidFill>
                <a:srgbClr val="dc4a1a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2189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Erkläre einer anderen Person die Arbeitsweise einer Klasse oder einer Methode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Die Person entdeckt vielleicht den Fehler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Das gewünschte Verhalten in Worte zu fassen, macht Ihnen selbst klar, warum es sich nicht so verhält.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c4a1a"/>
                </a:solidFill>
                <a:latin typeface="Trebuchet MS"/>
              </a:rPr>
              <a:t>Ausgabeanweisungen </a:t>
            </a:r>
            <a:br>
              <a:rPr sz="4400"/>
            </a:br>
            <a:r>
              <a:rPr b="0" lang="en-US" sz="2800" spc="-1" strike="noStrike">
                <a:solidFill>
                  <a:srgbClr val="dc4a1a"/>
                </a:solidFill>
                <a:latin typeface="Trebuchet MS"/>
              </a:rPr>
              <a:t>(Print statements)</a:t>
            </a:r>
            <a:endParaRPr b="0" lang="en-US" sz="2800" spc="-1" strike="noStrike">
              <a:solidFill>
                <a:srgbClr val="dc4a1a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7467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7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Die am häufigsten eingesetzte Technik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7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Keine </a:t>
            </a:r>
            <a:r>
              <a:rPr b="0" lang="de-DE" sz="2800" spc="-1" strike="noStrike">
                <a:solidFill>
                  <a:srgbClr val="000000"/>
                </a:solidFill>
                <a:latin typeface="Trebuchet MS"/>
              </a:rPr>
              <a:t>speziellen Werkzeuge benötigt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7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Alle Programmiersprachen unterstützen dies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7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Nur effektiv wenn die richtigen Methoden  dokumentiert werden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7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Achte auf zu viele Ausgaben. 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7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rebuchet MS"/>
              </a:rPr>
              <a:t>Im Voraus Ausschalten und Einschalten bedenken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c4a1a"/>
                </a:solidFill>
                <a:latin typeface="Trebuchet MS"/>
              </a:rPr>
              <a:t>Zentrale Konzepte</a:t>
            </a:r>
            <a:endParaRPr b="0" lang="en-US" sz="4400" spc="-1" strike="noStrike">
              <a:solidFill>
                <a:srgbClr val="dc4a1a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89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esten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7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ehlerbeseitigung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(Debugging)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7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ests automatisieren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7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Erstellung wartbarer Quelltexte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c4a1a"/>
                </a:solidFill>
                <a:latin typeface="Trebuchet MS"/>
              </a:rPr>
              <a:t>Debuggers</a:t>
            </a:r>
            <a:endParaRPr b="0" lang="en-US" sz="4400" spc="-1" strike="noStrike">
              <a:solidFill>
                <a:srgbClr val="dc4a1a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BlueJ hat einen integrierten Debugger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Haltepunkte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Einzelausführung (Schritt)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Hineinschreiten in Methoden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Aufrufsequenz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Objektzustand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c4a1a"/>
                </a:solidFill>
                <a:latin typeface="Trebuchet MS"/>
              </a:rPr>
              <a:t>Zusammenfassung</a:t>
            </a:r>
            <a:endParaRPr b="0" lang="en-US" sz="4400" spc="-1" strike="noStrike">
              <a:solidFill>
                <a:srgbClr val="dc4a1a"/>
              </a:solidFill>
              <a:latin typeface="Trebuchet M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7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Fehler gehören zum Leben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35880" indent="-335880">
              <a:spcBef>
                <a:spcPts val="700"/>
              </a:spcBef>
              <a:buClr>
                <a:srgbClr val="7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Wir können die Anzahl der Fehler verringern mit guten Software Engineering- Techniken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35880" indent="-335880">
              <a:spcBef>
                <a:spcPts val="700"/>
              </a:spcBef>
              <a:buClr>
                <a:srgbClr val="7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Testen und Fehlerbeseitigung sind grundlegende Tätigkeiten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35880" indent="-335880">
              <a:spcBef>
                <a:spcPts val="700"/>
              </a:spcBef>
              <a:buClr>
                <a:srgbClr val="7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Testen soll  </a:t>
            </a:r>
            <a:r>
              <a:rPr b="0" lang="de-DE" sz="2800" spc="-1" strike="noStrike">
                <a:solidFill>
                  <a:srgbClr val="000000"/>
                </a:solidFill>
                <a:latin typeface="Trebuchet MS"/>
              </a:rPr>
              <a:t>Gewohnheitssache sein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35880" indent="-335880">
              <a:spcBef>
                <a:spcPts val="700"/>
              </a:spcBef>
              <a:buClr>
                <a:srgbClr val="7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Wenn möglich automatisieren Sie Tests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35880" indent="-335880">
              <a:spcBef>
                <a:spcPts val="700"/>
              </a:spcBef>
              <a:buClr>
                <a:srgbClr val="7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rebuchet MS"/>
              </a:rPr>
              <a:t>Wenden Sie mehrere D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ebuggingfertigkeiten an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76960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c4a1a"/>
                </a:solidFill>
                <a:latin typeface="Trebuchet MS"/>
              </a:rPr>
              <a:t>Wir beschäftigen uns mit Fehlern.</a:t>
            </a:r>
            <a:endParaRPr b="0" lang="en-US" sz="4400" spc="-1" strike="noStrike">
              <a:solidFill>
                <a:srgbClr val="dc4a1a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7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Fehler am Anfang sind </a:t>
            </a:r>
            <a:r>
              <a:rPr b="0" lang="de-DE" sz="2800" spc="-1" strike="noStrike">
                <a:solidFill>
                  <a:srgbClr val="000000"/>
                </a:solidFill>
                <a:latin typeface="Trebuchet MS"/>
              </a:rPr>
              <a:t>normalerweise </a:t>
            </a:r>
            <a:r>
              <a:rPr b="0" i="1" lang="en-US" sz="2800" spc="-1" strike="noStrike">
                <a:solidFill>
                  <a:srgbClr val="000000"/>
                </a:solidFill>
                <a:latin typeface="Trebuchet MS"/>
              </a:rPr>
              <a:t>Syntaxfehlern (syntax errors)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Der Compiler findet sie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25800" indent="-325800">
              <a:spcBef>
                <a:spcPts val="700"/>
              </a:spcBef>
              <a:buClr>
                <a:srgbClr val="7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pätere Fehler  sind </a:t>
            </a:r>
            <a:r>
              <a:rPr b="0" lang="de-DE" sz="2800" spc="-1" strike="noStrike">
                <a:solidFill>
                  <a:srgbClr val="000000"/>
                </a:solidFill>
                <a:latin typeface="Trebuchet MS"/>
              </a:rPr>
              <a:t>normalerweise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rebuchet MS"/>
              </a:rPr>
              <a:t>logische Fehler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Der Compiler findet sie nicht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ind auch bekannt als bugs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25800" indent="-325800">
              <a:spcBef>
                <a:spcPts val="700"/>
              </a:spcBef>
              <a:buClr>
                <a:srgbClr val="7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Manchmal ist kaum zu erkennen, dass überhaupt ein logischer Fehler vorliegt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Kommerzielle Software enthält meistens Fehler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c4a1a"/>
                </a:solidFill>
                <a:latin typeface="Trebuchet MS"/>
              </a:rPr>
              <a:t>Prävention vs </a:t>
            </a:r>
            <a:r>
              <a:rPr b="0" lang="de-DE" sz="4400" spc="-1" strike="noStrike">
                <a:solidFill>
                  <a:srgbClr val="dc4a1a"/>
                </a:solidFill>
                <a:latin typeface="Trebuchet MS"/>
              </a:rPr>
              <a:t>Untersuchung</a:t>
            </a:r>
            <a:br>
              <a:rPr sz="4400"/>
            </a:br>
            <a:r>
              <a:rPr b="0" lang="en-US" sz="3600" spc="-1" strike="noStrike">
                <a:solidFill>
                  <a:srgbClr val="dc4a1a"/>
                </a:solidFill>
                <a:latin typeface="Trebuchet MS"/>
              </a:rPr>
              <a:t>(Entwickler vs Warter)</a:t>
            </a:r>
            <a:endParaRPr b="0" lang="en-US" sz="3600" spc="-1" strike="noStrike">
              <a:solidFill>
                <a:srgbClr val="dc4a1a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189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7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Wir können die Anzahl Fehler verringern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Benutze Software Engineering-Techniken, wie Kapselung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7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Wir können die Fehler eher entdecken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Benutze  Software Engineering-Praktiken,  wie Modularisierung und Dokumentation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7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Wir können Untersuchungsf</a:t>
            </a:r>
            <a:r>
              <a:rPr b="0" lang="de-DE" sz="2800" spc="-1" strike="noStrike">
                <a:solidFill>
                  <a:srgbClr val="000000"/>
                </a:solidFill>
                <a:latin typeface="Trebuchet MS"/>
              </a:rPr>
              <a:t>ertigkeiten 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entwickeln.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c4a1a"/>
                </a:solidFill>
                <a:latin typeface="Trebuchet MS"/>
              </a:rPr>
              <a:t>Testen und Fehlerbeseitigung </a:t>
            </a:r>
            <a:r>
              <a:rPr b="0" lang="en-US" sz="4400" spc="-1" strike="noStrike">
                <a:solidFill>
                  <a:srgbClr val="dc4a1a"/>
                </a:solidFill>
                <a:latin typeface="Trebuchet MS"/>
              </a:rPr>
              <a:t>	</a:t>
            </a:r>
            <a:r>
              <a:rPr b="0" lang="en-US" sz="4400" spc="-1" strike="noStrike">
                <a:solidFill>
                  <a:srgbClr val="dc4a1a"/>
                </a:solidFill>
                <a:latin typeface="Trebuchet MS"/>
              </a:rPr>
              <a:t>	</a:t>
            </a:r>
            <a:r>
              <a:rPr b="0" lang="en-US" sz="4400" spc="-1" strike="noStrike">
                <a:solidFill>
                  <a:srgbClr val="dc4a1a"/>
                </a:solidFill>
                <a:latin typeface="Trebuchet MS"/>
              </a:rPr>
              <a:t>	</a:t>
            </a:r>
            <a:r>
              <a:rPr b="0" lang="en-US" sz="4400" spc="-1" strike="noStrike">
                <a:solidFill>
                  <a:srgbClr val="dc4a1a"/>
                </a:solidFill>
                <a:latin typeface="Trebuchet MS"/>
              </a:rPr>
              <a:t>	</a:t>
            </a:r>
            <a:r>
              <a:rPr b="0" lang="en-US" sz="2800" spc="-1" strike="noStrike">
                <a:solidFill>
                  <a:srgbClr val="dc4a1a"/>
                </a:solidFill>
                <a:latin typeface="Trebuchet MS"/>
              </a:rPr>
              <a:t>(debugging)</a:t>
            </a:r>
            <a:endParaRPr b="0" lang="en-US" sz="2800" spc="-1" strike="noStrike">
              <a:solidFill>
                <a:srgbClr val="dc4a1a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18960" y="2209320"/>
            <a:ext cx="7467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7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Dies sind grundlegende Tätigkeiten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-339480">
              <a:spcBef>
                <a:spcPts val="799"/>
              </a:spcBef>
              <a:buClr>
                <a:srgbClr val="7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esten dient der Überprüfung ob es Fehler gibt. 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-339480">
              <a:spcBef>
                <a:spcPts val="799"/>
              </a:spcBef>
              <a:buClr>
                <a:srgbClr val="7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Debugging sucht die Ursache eines Fehlers und seiner Beseitigung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c4a1a"/>
                </a:solidFill>
                <a:latin typeface="Trebuchet MS"/>
              </a:rPr>
              <a:t>Techniken zum Testen und zur Fehlerbeseitigung</a:t>
            </a:r>
            <a:endParaRPr b="0" lang="en-US" sz="4400" spc="-1" strike="noStrike">
              <a:solidFill>
                <a:srgbClr val="dc4a1a"/>
              </a:solidFill>
              <a:latin typeface="Trebuchet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18960" y="2285640"/>
            <a:ext cx="74674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Modultests 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(Unit testing)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 (in BlueJ)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7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ests automatisieren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7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Manuelle Ausführung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7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Ausgabeanweisungen 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(Print statements)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7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Debuggers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c4a1a"/>
                </a:solidFill>
                <a:latin typeface="Trebuchet MS"/>
              </a:rPr>
              <a:t>Modultests </a:t>
            </a:r>
            <a:r>
              <a:rPr b="0" lang="en-US" sz="2800" spc="-1" strike="noStrike">
                <a:solidFill>
                  <a:srgbClr val="dc4a1a"/>
                </a:solidFill>
                <a:latin typeface="Trebuchet MS"/>
              </a:rPr>
              <a:t>(Unit testing)</a:t>
            </a:r>
            <a:endParaRPr b="0" lang="en-US" sz="2800" spc="-1" strike="noStrike">
              <a:solidFill>
                <a:srgbClr val="dc4a1a"/>
              </a:solidFill>
              <a:latin typeface="Trebuchet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189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7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Jede Einheit 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(unit)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 einer Anwendung soll getestet werden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Methode, Klasse, Modul (Paket in Java)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7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Kann (muss) während der Entwicklung geschehen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Frühes Finden und Beheben von Fehlern macht die Entwicklung billiger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Wir können so ein Testgerüst bauen: eine Reihe von Testfällen, die wir immer wieder einsetzen können während das System wächst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dc4a1a"/>
                </a:solidFill>
                <a:latin typeface="Trebuchet MS"/>
              </a:rPr>
              <a:t>Grundlagen von </a:t>
            </a:r>
            <a:r>
              <a:rPr b="0" lang="en-US" sz="4400" spc="-1" strike="noStrike">
                <a:solidFill>
                  <a:srgbClr val="dc4a1a"/>
                </a:solidFill>
                <a:latin typeface="Trebuchet MS"/>
              </a:rPr>
              <a:t>Testen</a:t>
            </a:r>
            <a:endParaRPr b="0" lang="en-US" sz="4400" spc="-1" strike="noStrike">
              <a:solidFill>
                <a:srgbClr val="dc4a1a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7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Verstehe was die Einheit tun sollte (der </a:t>
            </a:r>
            <a:r>
              <a:rPr b="0" i="1" lang="de-DE" sz="3200" spc="-1" strike="noStrike">
                <a:solidFill>
                  <a:srgbClr val="000000"/>
                </a:solidFill>
                <a:latin typeface="Trebuchet MS"/>
              </a:rPr>
              <a:t>Kontrakt</a:t>
            </a:r>
            <a:r>
              <a:rPr b="0" lang="de-DE" sz="3200" spc="-1" strike="noStrike">
                <a:solidFill>
                  <a:srgbClr val="000000"/>
                </a:solidFill>
                <a:latin typeface="Trebuchet MS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ie untersuchen </a:t>
            </a:r>
            <a:r>
              <a:rPr b="0" lang="de-DE" sz="2800" spc="-1" strike="noStrike">
                <a:solidFill>
                  <a:srgbClr val="000000"/>
                </a:solidFill>
                <a:latin typeface="Trebuchet MS"/>
              </a:rPr>
              <a:t>Verletzungen des Kontraktes.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rebuchet MS"/>
              </a:rPr>
              <a:t>Benutze 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positive Tests und negative Tests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29040" indent="-329040">
              <a:spcBef>
                <a:spcPts val="799"/>
              </a:spcBef>
              <a:buClr>
                <a:srgbClr val="7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est </a:t>
            </a:r>
            <a:r>
              <a:rPr b="0" i="1" lang="en-US" sz="3200" spc="-1" strike="noStrike">
                <a:solidFill>
                  <a:srgbClr val="000000"/>
                </a:solidFill>
                <a:latin typeface="Trebuchet MS"/>
              </a:rPr>
              <a:t>Grenzbereiche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Erste und letzte Position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Korrektes Verhalten bei einer leeren Datenstruktur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Korrektes Verhalten bei einer vollständig gefüllten Datenstruktur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2" marL="109728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c4a1a"/>
                </a:solidFill>
                <a:latin typeface="Trebuchet MS"/>
              </a:rPr>
              <a:t>Modultests in BlueJ</a:t>
            </a:r>
            <a:endParaRPr b="0" lang="en-US" sz="4400" spc="-1" strike="noStrike">
              <a:solidFill>
                <a:srgbClr val="dc4a1a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8960" y="1447560"/>
            <a:ext cx="74674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Objekte individueller Klassen können erzeugt werden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Individuelle Methoden können aufgerufen werden. 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Inspektoren geben unmittelbar Feedback über den Zustand eines Objekts. 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Untersuche das Projekt </a:t>
            </a:r>
            <a:r>
              <a:rPr b="0" i="1" lang="en-US" sz="3200" spc="-1" strike="noStrike">
                <a:solidFill>
                  <a:srgbClr val="000000"/>
                </a:solidFill>
                <a:latin typeface="Trebuchet MS"/>
              </a:rPr>
              <a:t>Terminkalender-Prototyp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1T08:48:08Z</dcterms:created>
  <dc:creator>David J. Barnes, Michael Kölling</dc:creator>
  <dc:description>Copyright © David J. Barnes, Michael Kölling</dc:description>
  <dc:language>en-US</dc:language>
  <cp:lastModifiedBy>Fontys ICT Services</cp:lastModifiedBy>
  <dcterms:modified xsi:type="dcterms:W3CDTF">2004-05-27T14:31:57Z</dcterms:modified>
  <cp:revision>40</cp:revision>
  <dc:subject/>
  <dc:title>Objects First with Java - Chapter 6</dc:title>
</cp:coreProperties>
</file>