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5181-1D7A-4A3A-839E-D78947D8F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desired, include more detailed discussion of identity vs equality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That's the next 5 slides, up to "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dentity vs equality (String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". Skip these if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not needed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= is not true here (of cou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= is still not true here (different objects, == tests ident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= is true now (same obj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= is still not true here (different objects, == tests ident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= is still not true here (different objects, == tests ident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6B25-D76E-4645-B419-41172E5B0767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Verbessertes Verhalten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nutzung von Bibliotheksklassen, um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fortgeschrittene Funktionalität zu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mplementier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Schnittstellen vs Implementierung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Die Dokumentation enthäl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ie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rebuchet MS"/>
              </a:rPr>
              <a:t>Schnittstelle (interface)</a:t>
            </a: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 der Klas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n Namen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allgemeine Beschreibung des Zwecks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Liste der Konstruktoren und Methoden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e Parameter und Ergebnistypen für jeden Konstruktor und jede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Beschreibung des Zwecks jedes Konstruktors und jeder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057400"/>
            <a:ext cx="1066680" cy="304920"/>
          </a:xfrm>
          <a:prstGeom prst="rightArrow">
            <a:avLst>
              <a:gd name="adj1" fmla="val 50000"/>
              <a:gd name="adj2" fmla="val 87456"/>
            </a:avLst>
          </a:prstGeom>
          <a:solidFill>
            <a:srgbClr val="f47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Schnittstellen vs Implementierungen </a:t>
            </a:r>
            <a:br>
              <a:rPr sz="4400"/>
            </a:b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Interface vs implementation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Die Dokumentation enthält </a:t>
            </a:r>
            <a:r>
              <a:rPr b="1" i="1" lang="en-GB" sz="2800" spc="-1" strike="noStrike">
                <a:solidFill>
                  <a:srgbClr val="000000"/>
                </a:solidFill>
                <a:latin typeface="Trebuchet MS"/>
              </a:rPr>
              <a:t>nicht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ivate Datenfelder (die meisten Datenfelder sind private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ivate Metho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e Rümpfe (Quelltext) jeder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e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rebuchet MS"/>
              </a:rPr>
              <a:t>Implementierung</a:t>
            </a: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55627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f47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Benutzung von Bibliotheksklassen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n der Bibliothek müssen mittels einer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import-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weisung importier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Ausnahme: Klassen von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java.lang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ie können wie Klassen vom aktuellen Projekt benutz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Pakete und Impor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n sind gebündelt in Paket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zelne Klassen können importiert werden:</a:t>
            </a:r>
            <a:br>
              <a:rPr sz="3200"/>
            </a:br>
            <a:br>
              <a:rPr sz="16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mport java.util.ArrayList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uch ganze Pakete können importiert werden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Side note: Gleichheit von Zeichenketten </a:t>
            </a:r>
            <a:r>
              <a:rPr b="0" i="1" lang="en-GB" sz="2800" spc="-1" strike="noStrike">
                <a:solidFill>
                  <a:srgbClr val="dc4a1a"/>
                </a:solidFill>
                <a:latin typeface="Trebuchet MS"/>
              </a:rPr>
              <a:t>(Strings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eingabe == ”ade") {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</a:rPr>
              <a:t>testet Identitä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eingabe.equals(”ade")) {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</a:rPr>
              <a:t>testet Gleichhe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Strings sollen praktisch immer mit</a:t>
            </a: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quals </a:t>
            </a:r>
            <a:r>
              <a:rPr b="1" lang="en-AU" sz="2000" spc="-1" strike="noStrike">
                <a:solidFill>
                  <a:srgbClr val="000000"/>
                </a:solidFill>
                <a:latin typeface="Trebuchet MS"/>
              </a:rPr>
              <a:t>statt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== </a:t>
            </a:r>
            <a:r>
              <a:rPr b="0" lang="en-AU" sz="2000" spc="-1" strike="noStrike">
                <a:solidFill>
                  <a:srgbClr val="000000"/>
                </a:solidFill>
                <a:latin typeface="Trebuchet MS"/>
              </a:rPr>
              <a:t>verglichen werden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203184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49236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7652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4a1a"/>
                </a:solidFill>
                <a:latin typeface="Trebuchet MS"/>
              </a:rPr>
              <a:t>Identität vs Gleichheit (1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976320" y="1679400"/>
            <a:ext cx="679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Andere (non-String) Objek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86600" y="5715000"/>
            <a:ext cx="383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erson1 == person2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6692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057400" y="388584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644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948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1960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Jil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10080" y="388584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0704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4a1a"/>
                </a:solidFill>
                <a:latin typeface="Trebuchet MS"/>
              </a:rPr>
              <a:t>Identität vs Gleichheit (2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976320" y="1679400"/>
            <a:ext cx="679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Andere (non-String) Objek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6600" y="5715000"/>
            <a:ext cx="383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erson1 == person2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6692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057400" y="388584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644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948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436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10080" y="388584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0704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7652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4a1a"/>
                </a:solidFill>
                <a:latin typeface="Trebuchet MS"/>
              </a:rPr>
              <a:t>Identität vs Gleichheit (3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976320" y="1679400"/>
            <a:ext cx="679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Andere (non-String) Objek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86600" y="5715000"/>
            <a:ext cx="3830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erson1 == person2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6692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7400" y="388584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644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9480" y="47242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person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259092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19600" y="3268800"/>
            <a:ext cx="952560" cy="312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r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266688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5436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657600" y="3809520"/>
            <a:ext cx="17524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07040" y="430524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81080" y="352260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4a1a"/>
                </a:solidFill>
                <a:latin typeface="Trebuchet MS"/>
              </a:rPr>
              <a:t>Identität vs Gleichheit (Strings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4" name=""/>
          <p:cNvSpPr/>
          <p:nvPr/>
        </p:nvSpPr>
        <p:spPr>
          <a:xfrm>
            <a:off x="2571840" y="4200480"/>
            <a:ext cx="9525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359892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362320" y="481788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61360" y="565632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352260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24520" y="4200480"/>
            <a:ext cx="9525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359892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58920" y="523728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38240" y="1940040"/>
            <a:ext cx="582012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tring eingabe = leser.gibEingabe();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eingabe == ”ade"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2514600"/>
            <a:ext cx="2819520" cy="454680"/>
          </a:xfrm>
          <a:prstGeom prst="rect">
            <a:avLst/>
          </a:prstGeom>
          <a:solidFill>
            <a:srgbClr val="dc4a1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== testet Ident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77520" y="37926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=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86280" y="3794040"/>
            <a:ext cx="4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579132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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fal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080" y="352260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c4a1a"/>
                </a:solidFill>
                <a:latin typeface="Trebuchet MS"/>
              </a:rPr>
              <a:t>Identität vs Gleichheit (Strings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2571840" y="4200480"/>
            <a:ext cx="9525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359892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362320" y="4817880"/>
            <a:ext cx="30456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61360" y="565632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einga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352260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3120" y="4200480"/>
            <a:ext cx="9525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3598920"/>
            <a:ext cx="2057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523728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38240" y="1940040"/>
            <a:ext cx="5667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tring eingabe = leser.gibEingab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input.equals(”ade"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2362320"/>
            <a:ext cx="3733920" cy="454680"/>
          </a:xfrm>
          <a:prstGeom prst="rect">
            <a:avLst/>
          </a:prstGeom>
          <a:solidFill>
            <a:srgbClr val="dc4a1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equals</a:t>
            </a:r>
            <a:r>
              <a:rPr b="0" lang="en-AU" sz="2400" spc="-1" strike="noStrike">
                <a:solidFill>
                  <a:srgbClr val="ffffff"/>
                </a:solidFill>
                <a:latin typeface="Trebuchet MS"/>
              </a:rPr>
              <a:t> testet Gleichh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59360" y="389268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eq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14880" y="3794040"/>
            <a:ext cx="42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5334120"/>
            <a:ext cx="3446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</a:t>
            </a: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rebuchet MS"/>
              </a:rPr>
              <a:t>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entrale Konzep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nutzen von Bibliotheksklasse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kumentation les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kumentation schreib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ie Klasse Random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ie Bibliotheksklasse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kann benutzt werden um Zufallszahlen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random numbers)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zu erzeug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581280"/>
            <a:ext cx="7086600" cy="2438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90800" bIns="19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ort java.util.Rand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 zufallsGenerator = new Random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nt index1 = zufallsGenerator.next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nt index2 = zufallsGenerator.nextInt(1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Zufällige Antworten generieren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1676520"/>
            <a:ext cx="7543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198000" tIns="190800" bIns="19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Respond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ndomGenerator = new Random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sponses = new Array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llResponses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ring generateRespon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 index = randomGenerator.nextInt(responses.siz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(String) responses.get(ind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fillResponse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aps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Map ist eine Sammlung von Schlüssel-Wert-Paar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solches Paar besteht aus einem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Schlüssel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-Objekt(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rebuchet MS"/>
              </a:rPr>
              <a:t>key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) und einem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Wert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-Objekt (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rebuchet MS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verwenden das Schlüssel-Objekt, um das Wert-Objekt zu bekomm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ispiel: ein Telefonbuch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enutzung von Map-Klass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e Hashmap mit Strings als Schlüssel-Wert-Paar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971800"/>
            <a:ext cx="5639040" cy="3048120"/>
          </a:xfrm>
          <a:prstGeom prst="roundRect">
            <a:avLst>
              <a:gd name="adj" fmla="val 16667"/>
            </a:avLst>
          </a:prstGeom>
          <a:solidFill>
            <a:srgbClr val="cd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57336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Charles Nguyen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52480" y="2971800"/>
            <a:ext cx="563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ffff"/>
                </a:solidFill>
                <a:uFillTx/>
                <a:latin typeface="Trebuchet MS"/>
              </a:rPr>
              <a:t>:Hash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91080" y="357336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(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531) 9392 4587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403056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Lisa Jones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1080" y="403056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(402) 4536 4674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47984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William H. Smith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91080" y="4479840"/>
            <a:ext cx="2228760" cy="3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(998) 5488 0123</a:t>
            </a:r>
            <a:r>
              <a:rPr b="0" lang="en-AU" sz="1800" spc="-1" strike="noStrike">
                <a:solidFill>
                  <a:srgbClr val="000000"/>
                </a:solidFill>
                <a:latin typeface="Trebuchet MS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enutzung von Map-Klassen  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696080" cy="327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ashMap telefonbuch = new HashMap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lefonbuch.put("Charles Nguyen", "(531) 9392 4587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lefonbuch.put("Lisa Jones", "(402) 4536 4674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lefonbuch.put("William H. Smith", "(998) 5488 0123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 nummer = (String)telefonbuch.get("Lisa Jones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ln(nummer); //  (402) 4536 467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er Umgang mit Mengen </a:t>
            </a: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sets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467480" cy="468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198000" rIns="1980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util.HashSe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ort java.util.Iterator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ashSet meineMenge = new Hash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ineMenge.add(”eins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ineMenge.add(”zwei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ineMenge.add(”drei"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rator it = meineMenge.iterator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it.hasNext())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.next()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aufrufen für das nächste Objek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etwas mit diesem Objekt tu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276720"/>
            <a:ext cx="3886200" cy="820440"/>
          </a:xfrm>
          <a:prstGeom prst="rect">
            <a:avLst/>
          </a:prstGeom>
          <a:solidFill>
            <a:srgbClr val="dc4a1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Vergleiche dieses mit dem ArrayList-co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Zeichenketten zerlegen </a:t>
            </a: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Tokenizing Strings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68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198000" rIns="1980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HashSet gibEingabe(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ystem.out.print("&gt; ")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 eingabezeile =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ingabezeileEinlesen().trim().toLowerCas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Tokenizer tokenizer =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StringTokenizer(eingabezeile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ashSet woerter = new Hash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le(tokenizer.hasMoreTokens())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oerter.add(tokenizer.nextToken());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woerter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dokumentation schreib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ie sollen ihre eigene Klassen genau so dokumentieren wie die Java-Bibliotheksklas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dere Programmierer müssen ihre Klassen benutzen können ohne die Implementierung zu le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ls Klassendokumentation braucht man nur die Schnittstelle zu seh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lemente einer Klassendokumentat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Die Dokumentation einer Klasse sollte enthalt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n Namen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allgemeine Beschreibung des Zwecks der Klas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Versionsnumm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n (oder die) Autorennam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Dokumentation für jeden Konstruktor und jede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lemente einer Klassendokumentat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Die Dokumentation einer Methode sollte enthalte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n Namen der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n Ergebnistyp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return typ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ie Namen und Typen der Parame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Beschreibung des Zwecks und der Arbeitsweise der Meth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Beschreibung jedes Paramet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Beschreibung des Ergebniss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ie Java-Bibliothek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steht aus tausenden von Klass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ehntausende Method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Viele nützliche Klassen machen das Leben viel leicht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kompetenter Java-Programmierer muss mit Bibliotheken arbeiten könn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javadoc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Klassenkommenta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Die Klasse Notizbuch verwaltet beliebig lan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Notizlist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Notizen sind nummeriert, die Nummern starten bei 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@author     Michael Kölling and David J. Bar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@version    1.0  (1.Feb.200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javadoc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Methodenkommentar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Zeige eine Notiz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@param notiznummer die Nummer der Notiz,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   die gezeigt werden so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zeigeNotiz (int notiznummer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Public vs priva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ublic Datenfelder, Konstruktoren und Methoden sind zugreifbar auch von anderen Klas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atenfelder sind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vorzugsweise nicht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publi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rivate Datenfelder und Methoden sind zugreifbar nur innerhalb der zu definierenden Klass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Nur Methoden, bestimmt für Benutzung in anderen Klassen, sollten public sei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as geheimnisprinzip</a:t>
            </a:r>
            <a:br>
              <a:rPr sz="4400"/>
            </a:b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Information hiding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Data gehörend zu einem Objekt ist verborgen 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(hidden)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 für andere Objekt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Man soll wissen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Trebuchet MS"/>
              </a:rPr>
              <a:t>was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 ein Objekt tun kann, nicht </a:t>
            </a:r>
            <a:r>
              <a:rPr b="0" lang="en-AU" sz="3200" spc="-1" strike="noStrike" u="sng">
                <a:solidFill>
                  <a:srgbClr val="000000"/>
                </a:solidFill>
                <a:uFillTx/>
                <a:latin typeface="Trebuchet MS"/>
              </a:rPr>
              <a:t>wie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 das Objekt das tu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Information hiding unterstützt lose Koppl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Lose Kopplung  ist wichtig für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große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 Systeme und Wart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variabl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467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nstant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ivate static final int gravitation = 3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: Zugriffsmodifikat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rebuchet MS"/>
              </a:rPr>
              <a:t>(access modifier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: Klassenvaria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AU" sz="3200" spc="-1" strike="noStrike">
                <a:solidFill>
                  <a:srgbClr val="000000"/>
                </a:solidFill>
                <a:latin typeface="Trebuchet MS"/>
              </a:rPr>
              <a:t>: Konstan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va hat eine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umfangreich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 Standardklassenbibliothe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guter Programmierer muss mit dieser Bibliothek vertraut sei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Dokumentation sagt uns, was wir benötigen, um die Klasse benutzen zu können (Schnittstelle,interface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Implementierung ist verborgen (information hiding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 dokumentieren unsere Klassen so, dass die Schnittstelle eigenständig gelesen werden kan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Umgang mit der Bibliothek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ie solle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ige der wichtigsten Klassen der Bibliothek namentlich kenn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ssen, wie Sie die anderen Klassen  anlesen könn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Erinnert euch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r müssen nur die Schnittstelle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interface)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kennen, nicht die Implementierun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in Kundendienstsystem</a:t>
            </a:r>
            <a:br>
              <a:rPr sz="4400"/>
            </a:b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A Technical Support System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Dialogsyste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dee stammt von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‘Eliza’,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Joseph Weizenbaum (MIT, 1960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Trebuchet MS"/>
              </a:rPr>
              <a:t>Untersuche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Struktur der wichtigsten while-Schleife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fertig = fals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while(!fertig)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sz="1800" spc="-1" strike="noStrike">
                <a:solidFill>
                  <a:srgbClr val="000000"/>
                </a:solidFill>
                <a:latin typeface="Courier New"/>
              </a:rPr>
              <a:t>tue etw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i="1" sz="1800" spc="-1" strike="noStrike">
                <a:solidFill>
                  <a:srgbClr val="000000"/>
                </a:solidFill>
                <a:latin typeface="Courier New"/>
              </a:rPr>
              <a:t>(Ende-Bedingung)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fertig = 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sz="1800" spc="-1" strike="noStrike">
                <a:solidFill>
                  <a:srgbClr val="000000"/>
                </a:solidFill>
                <a:latin typeface="Courier New"/>
              </a:rPr>
              <a:t>tue etwas ander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Hauptteil dieser Schleif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tring eingabe = leser.gibEingabe(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tring antwort =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beantworter.generiereAntwort(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ystem.out.println(antwor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ie Ende-Bedingung</a:t>
            </a:r>
            <a:br>
              <a:rPr sz="4400"/>
            </a:b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(The exit condition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String eingabe = leser.gibEingabe(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eingabe.startsWith(”ade")) {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ertig = true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oher kommt ‘startsWith’ from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as tut diese Method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Wie finden wir das heraus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dokumentation les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okumentation der Java- Bibliothek  in HTML format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Lesen in einem Web Brows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lass API: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Application Programmers’ Interfa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chnittstellen-Beschreibung aller Bibliotheksklassen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vid J. Barnes, Michael Kölling</dc:creator>
  <dc:description>Copyright © David J. Barnes, Michael Kölling</dc:description>
  <dc:language>en-US</dc:language>
  <cp:lastModifiedBy>Fontys ICT Services</cp:lastModifiedBy>
  <cp:lastPrinted>2004-05-27T09:20:11Z</cp:lastPrinted>
  <dcterms:modified xsi:type="dcterms:W3CDTF">2004-05-27T10:50:54Z</dcterms:modified>
  <cp:revision>138</cp:revision>
  <dc:subject/>
  <dc:title>Objects First With Java - Chapter 5</dc:title>
</cp:coreProperties>
</file>