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8A14-C52B-4036-BB54-30B768E9506D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9907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57200"/>
            <a:ext cx="761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Objektorientierte Programmierung mit Java</a:t>
            </a:r>
            <a:br>
              <a:rPr sz="2400"/>
            </a:br>
            <a:br>
              <a:rPr sz="800"/>
            </a:b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Eine praxisnahe 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Einf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ü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hrung mit </a:t>
            </a: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 Blu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lassenentwurf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e schreiben wir Klassen die leicht zu verstehen, wartbar und wiederverwendbar sind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Hohe Kohäsio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Hohe Kohäsion macht es leichter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zu verstehen was eine Klasse oder Methode tut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r definierte Namen zu benutzen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ssen oder Methoden wieder zu verwen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ohäsion von Method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7428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Methode sollte verantwortlich sein für genau eine wohl definierte Aufgab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ohäsion von Klass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01320" y="26665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Klasse sollte genau eine gut definierte Einheit (einen Objekttyp) modellier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Code-Duplizier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ode-Duplizieru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st ein Indiz für einen schlechten Entwurf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acht Wartung schwieriger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rhöht die Gefahr von Fehlern während der Wart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ntwurf nach Zustandigkeiten</a:t>
            </a:r>
            <a:br>
              <a:rPr sz="4400"/>
            </a:br>
            <a:r>
              <a:rPr b="0" lang="en-GB" sz="3200" spc="-1" strike="noStrike">
                <a:solidFill>
                  <a:srgbClr val="dc4a1a"/>
                </a:solidFill>
                <a:latin typeface="Trebuchet MS"/>
              </a:rPr>
              <a:t>(Responsibility-driven design)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Frage: Wo werden wir eine neue Methode (mit neuer Funktionalität) hinzufügen (welche Klasse)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twort: Wenn eine Klasse verantwortlich ist für bestimmte Daten, dann sollte sie auch verantwortlich sein für den Umgang mit diesen Dat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RDD führt zu loser Koppl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Änderungen lokal halt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 Ziel von Entkopplung und Zuständigkeiten ist, dass Änderungen lokal gehalten werden sollte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enn eine Änderung notwendig ist, dann sollten möglichst wenige Klassen geändert werde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Änderung an einer Klasse sollte einen möglichst geringen Einfluss auf andere Klassen hab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Vorausdenk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enn Sie Klassen entwerfen, versuchen Sie voraus zu denke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as könnte sich in Zukunft änder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elche Teile bleiben voraussichtlich unveränder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r wollen Änderungen leichter mach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Refactori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enn Klassen gewartet werden, dann wird oft Code hinzugefüg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n Klassen und Methoden werden immer mehr neue Anweisungen eingefüg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mmer wieder sollten wir Klassen und Methoden restrukturieren 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(refactoring)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um die Kohäsion und die  lose Kopplung zu wahr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Refactoring und Test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Trenne die R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estrukturierung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von der Einführung neuer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Funktionalität.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Zuerst restrukturieren wir ohne Funktionalität zu ändern oder zu erweitern.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r testen vor und nach der R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estrukturierung um sicher zu stellen, dass die ursprüngliche Funktionalität erhalten geblieben is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ntwurfsfragen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Häufige Frage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e lang soll eine Klasse sei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e lang soll eine Methode sein?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iese fragen können jetzt beantwortet werden mit Blick auf Kopplung und Kohäs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entrale Konzep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twurf nach Zuständigkeiten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Responsibility-driven desig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opplung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Coupling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ohäsi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Cohesion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facto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ntwurfsrichtlini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Methode ist zu lang, wenn sie mehr als eine logische Aufgabe erfüllt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Klasse ist zu komplex,wenn sie mehr als eine logische Einheit modelliert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emerkung: diese Hinweise sind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Richtlinie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- sie lassen noch vieles offen für den Entwerfer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in Programm ändert sich imm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ist wichtig diese Änderungen möglich zu mache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de soll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begreiflich und wartbar se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Qualitätscode vermeidet Duplizierung, zeigt hohe Kohäsion und lose Koppl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Ein klarer Stil (Kommentare, Namen, Layout, usw.) ist auch wichtig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gibt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ein himmelweiter Unterschied in Arbeit, erforderlich, um schlecht strukturierter Code und gut strukturierter Code zu änder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Software ändert sich immer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ftware ist nicht wie ein Roman, der -einmal geschrieben-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unverändert bleibt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ftware wird erweitert, angepasst, gewartet, 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Oft arbeiten mehrere Personen daran, oft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über viele Jahre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Ändere oder Stirb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git nur zwei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Möglichkeiten für 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ftware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Entweder Sie wird ständig gewart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der Sie stirb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ftware, die nicht gewartet wird, wird weggeworf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Die Welt von Zuul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c4a1a"/>
                </a:solidFill>
                <a:latin typeface="Trebuchet MS"/>
              </a:rPr>
              <a:t>Qualität des </a:t>
            </a: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Codes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Zwei wichtige Konzepte für die Qualität des Code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oppl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ohäs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opplung </a:t>
            </a:r>
            <a:r>
              <a:rPr b="0" lang="en-GB" sz="3200" spc="-1" strike="noStrike">
                <a:solidFill>
                  <a:srgbClr val="dc4a1a"/>
                </a:solidFill>
                <a:latin typeface="Trebuchet MS"/>
              </a:rPr>
              <a:t>(Coupling)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opplung beschreibt den Grad der Abhängigkeiten zwischen separaten Modulen eines Programm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enn zwei Klassen stark abhängig sind von vielen Details voneinander,dann sind Sie eng gekoppelt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tightly coupled)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r streben eine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lose Kopplung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Lose Koppl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Lose Kopplung  macht es möglich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Klasse zu verstehen ohne andere Klassen zu lesen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Klasse zu ändern ohne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Auswirkungen bei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deren Klassen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lso: verbessert die Wart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ohäsio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ohäsion bezieht sich auf die Anzahl und Vielfalt der Aufgaben, für die eine einzelne Einheit zuständig is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enn eine Einheit verantwortlich ist für genau eine logische Aufgabe, dann sprechen wir von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hoher Kohäsio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ohäsion ist wichtig für einzelne Klassen und einzelne Metho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r streben eine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hohe Kohäsion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9:20:48Z</dcterms:created>
  <dc:creator>Fontys ICT Services</dc:creator>
  <dc:description>Copyright © David J. Barnes, Michael Kölling</dc:description>
  <dc:language>en-US</dc:language>
  <cp:lastModifiedBy>Fontys ICT Services</cp:lastModifiedBy>
  <dcterms:modified xsi:type="dcterms:W3CDTF">2004-05-27T14:45:18Z</dcterms:modified>
  <cp:revision>9</cp:revision>
  <dc:subject/>
  <dc:title>Klassenentwurf </dc:title>
</cp:coreProperties>
</file>